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6858000" cy="9144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ACD-531B-45DA-9A81-9A70515DDDB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497-D90E-4365-AAE6-0B15BDECBF0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D67-FB5B-49DB-8180-4F36D12C672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5B94-42C4-4230-98D7-BA2BE546137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C0E-2362-4E7E-A2EA-6E855126AAD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5EA-F2DF-4991-A2B1-AD8535C8FBD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090880" y="722160"/>
            <a:ext cx="2706480" cy="3608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슬라이드 번호 개체 틀 3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08C-A9E4-4AF5-8B6F-BF8528E87DA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52280" y="8763120"/>
            <a:ext cx="6553440" cy="7596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" name="Text Box 6"/>
          <p:cNvSpPr/>
          <p:nvPr/>
        </p:nvSpPr>
        <p:spPr>
          <a:xfrm>
            <a:off x="189000" y="884232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5102280" y="880596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휴먼옛체"/>
              </a:rPr>
              <a:t>Page No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fld id="{2DEBE8B8-9808-4C78-B308-1CC2E2B0555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152280" y="546120"/>
            <a:ext cx="6553440" cy="763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tretch/>
        </p:blipFill>
        <p:spPr>
          <a:xfrm>
            <a:off x="5500800" y="168120"/>
            <a:ext cx="1171440" cy="29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2.png"/><Relationship Id="rId3" Type="http://schemas.openxmlformats.org/officeDocument/2006/relationships/image" Target="../media/image44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그룹 3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9" name="Picture 3" descr="C:\Users\pang\Desktop\그림2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그림 31" descr="C:\Users\user\Desktop\sendbill.PNG"/>
            <p:cNvPicPr/>
            <p:nvPr/>
          </p:nvPicPr>
          <p:blipFill>
            <a:blip r:embed="rId3"/>
            <a:stretch/>
          </p:blipFill>
          <p:spPr>
            <a:xfrm>
              <a:off x="442440" y="2978280"/>
              <a:ext cx="2016000" cy="50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그룹 19"/>
          <p:cNvGrpSpPr/>
          <p:nvPr/>
        </p:nvGrpSpPr>
        <p:grpSpPr>
          <a:xfrm>
            <a:off x="358920" y="1022400"/>
            <a:ext cx="5518080" cy="1020600"/>
            <a:chOff x="358920" y="1022400"/>
            <a:chExt cx="5518080" cy="102060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358920" y="1022400"/>
              <a:ext cx="106992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8"/>
            <p:cNvSpPr/>
            <p:nvPr/>
          </p:nvSpPr>
          <p:spPr>
            <a:xfrm>
              <a:off x="1428840" y="1093680"/>
              <a:ext cx="4448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인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접속을 위한 사용자 인증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아웃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접속 종료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프로그램 종료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grpSp>
        <p:nvGrpSpPr>
          <p:cNvPr id="100" name="그룹 17"/>
          <p:cNvGrpSpPr/>
          <p:nvPr/>
        </p:nvGrpSpPr>
        <p:grpSpPr>
          <a:xfrm>
            <a:off x="358920" y="5214960"/>
            <a:ext cx="5948280" cy="1000080"/>
            <a:chOff x="358920" y="5214960"/>
            <a:chExt cx="5948280" cy="1000080"/>
          </a:xfrm>
        </p:grpSpPr>
        <p:pic>
          <p:nvPicPr>
            <p:cNvPr id="101" name="Picture 6" descr=""/>
            <p:cNvPicPr/>
            <p:nvPr/>
          </p:nvPicPr>
          <p:blipFill>
            <a:blip r:embed="rId2"/>
            <a:stretch/>
          </p:blipFill>
          <p:spPr>
            <a:xfrm>
              <a:off x="358920" y="5214960"/>
              <a:ext cx="113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1571760" y="5236920"/>
              <a:ext cx="4735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새작업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기존에 추가한 파일을 지우고 신규 파일 추가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파일 추가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통합파일 양식에 맞게 작성된 파일 추가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전송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추가된 전자문서 중 정상 데이터 전송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10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메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104" name="그룹 18"/>
          <p:cNvGrpSpPr/>
          <p:nvPr/>
        </p:nvGrpSpPr>
        <p:grpSpPr>
          <a:xfrm>
            <a:off x="285840" y="2363760"/>
            <a:ext cx="6167520" cy="2521800"/>
            <a:chOff x="285840" y="2363760"/>
            <a:chExt cx="6167520" cy="2521800"/>
          </a:xfrm>
        </p:grpSpPr>
        <p:sp>
          <p:nvSpPr>
            <p:cNvPr id="105" name="Text Box 8"/>
            <p:cNvSpPr/>
            <p:nvPr/>
          </p:nvSpPr>
          <p:spPr>
            <a:xfrm>
              <a:off x="285840" y="3423600"/>
              <a:ext cx="616752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환경설정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전자문서 전송에 관련된 환경설정 및  인증서 관리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파일보기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일자 별 프로그램 실행부터 종료까지  실행한 모든 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내용을 확인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예외 사업자번호 관리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사업자번호 검사를 하지 않는 예외적인 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사업자번호를 등록 및 삭제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106" name="Picture 13" descr=""/>
            <p:cNvPicPr/>
            <p:nvPr/>
          </p:nvPicPr>
          <p:blipFill>
            <a:blip r:embed="rId3"/>
            <a:stretch/>
          </p:blipFill>
          <p:spPr>
            <a:xfrm>
              <a:off x="357120" y="2363760"/>
              <a:ext cx="193932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그룹 16"/>
          <p:cNvGrpSpPr/>
          <p:nvPr/>
        </p:nvGrpSpPr>
        <p:grpSpPr>
          <a:xfrm>
            <a:off x="285840" y="6510240"/>
            <a:ext cx="4735440" cy="1882440"/>
            <a:chOff x="285840" y="6510240"/>
            <a:chExt cx="4735440" cy="1882440"/>
          </a:xfrm>
        </p:grpSpPr>
        <p:pic>
          <p:nvPicPr>
            <p:cNvPr id="108" name="Picture 14" descr=""/>
            <p:cNvPicPr/>
            <p:nvPr/>
          </p:nvPicPr>
          <p:blipFill>
            <a:blip r:embed="rId4"/>
            <a:stretch/>
          </p:blipFill>
          <p:spPr>
            <a:xfrm>
              <a:off x="357120" y="6510240"/>
              <a:ext cx="23270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8"/>
            <p:cNvSpPr/>
            <p:nvPr/>
          </p:nvSpPr>
          <p:spPr>
            <a:xfrm>
              <a:off x="285840" y="7477920"/>
              <a:ext cx="4735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정보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SendPlusV3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의 버전정보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매뉴얼 다운로드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SendPlusV3 Manual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다운로드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양식 다운로드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통합파일 양식 다운로드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214200" y="6500880"/>
            <a:ext cx="64008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하기 위해 추가한 파일에 대한 정보를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 안에 존재하는 전자문서의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할 수 있는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지정된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 형식에 어긋나는 오류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미가입되어 있는 거래처에 보내려고 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하는 문서의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의 총 공급가액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총 세액과 파일을 올린 시각을 볼 수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된 파일에 존재하는 각각의 전자문서 타입에 대한 건수를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각각의 전자문서 건수는 공급자의 아이디를 기준으로 구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301680" y="900000"/>
            <a:ext cx="6327720" cy="545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TextBox 13"/>
          <p:cNvSpPr/>
          <p:nvPr/>
        </p:nvSpPr>
        <p:spPr>
          <a:xfrm>
            <a:off x="3100320" y="29289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3097080" y="50529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5" name="모서리가 둥근 직사각형 16"/>
          <p:cNvSpPr/>
          <p:nvPr/>
        </p:nvSpPr>
        <p:spPr>
          <a:xfrm>
            <a:off x="228600" y="160956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309600" y="1000080"/>
            <a:ext cx="5999040" cy="51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TextBox 14"/>
          <p:cNvSpPr/>
          <p:nvPr/>
        </p:nvSpPr>
        <p:spPr>
          <a:xfrm>
            <a:off x="3102840" y="3857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4200" y="6500880"/>
            <a:ext cx="6643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데이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에 있는 전자문서의 상세내용을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데이타구분으로는 정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이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을 추가할 때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제공하는 양식과 비교하여 다를 때 데이타구분이 전송전오류로 자동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변경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후오류는 전송중에 발생한 오류로써 전송되지 않은 데이터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은 회원전용 문서를 비회원에게 전송할 때 나는 오류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전자문서의 품목정보를 제외한 나머지 전자문서의 상세정보를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0" name="모서리가 둥근 직사각형 10"/>
          <p:cNvSpPr/>
          <p:nvPr/>
        </p:nvSpPr>
        <p:spPr>
          <a:xfrm>
            <a:off x="731880" y="1670040"/>
            <a:ext cx="714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28760" y="971640"/>
            <a:ext cx="5857920" cy="50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14200" y="6500880"/>
            <a:ext cx="6643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확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의 모든 상태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의 시작부터 종료까지 일련의 모든 동작들이 기록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3102840" y="3857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5" name="모서리가 둥근 직사각형 10"/>
          <p:cNvSpPr/>
          <p:nvPr/>
        </p:nvSpPr>
        <p:spPr>
          <a:xfrm>
            <a:off x="1341360" y="1619280"/>
            <a:ext cx="7146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216000" y="6500880"/>
            <a:ext cx="6643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세한 로그 내용을 보고 싶을 때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도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파일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클릭하시면 이전에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업하던 상황을 날짜 별로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해당 날짜를 클릭하면 화면 오른쪽에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내용이 나오며 삭제버튼으로 해당 날짜의 로그를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삭제된 내용은 복구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1"/>
          <a:stretch/>
        </p:blipFill>
        <p:spPr>
          <a:xfrm>
            <a:off x="547560" y="785880"/>
            <a:ext cx="2638440" cy="17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모서리가 둥근 직사각형 18"/>
          <p:cNvSpPr/>
          <p:nvPr/>
        </p:nvSpPr>
        <p:spPr>
          <a:xfrm>
            <a:off x="849240" y="1432080"/>
            <a:ext cx="157176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2"/>
          <a:stretch/>
        </p:blipFill>
        <p:spPr>
          <a:xfrm>
            <a:off x="1190520" y="2000160"/>
            <a:ext cx="52484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굽은 화살표 13"/>
          <p:cNvSpPr/>
          <p:nvPr/>
        </p:nvSpPr>
        <p:spPr>
          <a:xfrm flipV="1">
            <a:off x="642960" y="3000240"/>
            <a:ext cx="1000080" cy="928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2" name="모서리가 둥근 직사각형 15"/>
          <p:cNvSpPr/>
          <p:nvPr/>
        </p:nvSpPr>
        <p:spPr>
          <a:xfrm>
            <a:off x="1262160" y="2664000"/>
            <a:ext cx="1285920" cy="28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화면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16000" y="6500880"/>
            <a:ext cx="66434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가입 화면은 제휴사로 등록된 업체만 사용 가능한 메뉴로서 사용을 원하시는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체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담당자 혹은 고객지원센터로 연락하십시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(1577-3925)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버튼을 눌러서 회원가입 파일을 추가 한 후에 그 파일의 이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입시킬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원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한 회원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양식에 어긋나거나 기타 오류가 난 회원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그리고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을 추가한 시각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을 상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선택하면 화면 하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해당 파일의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상세내역이 나타나 가입시킬 회원 정보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14200" y="907920"/>
            <a:ext cx="6315120" cy="547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모서리가 둥근 직사각형 14"/>
          <p:cNvSpPr/>
          <p:nvPr/>
        </p:nvSpPr>
        <p:spPr>
          <a:xfrm>
            <a:off x="1781280" y="1622520"/>
            <a:ext cx="7142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3102840" y="25002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099600" y="44766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8"/>
          <p:cNvSpPr/>
          <p:nvPr/>
        </p:nvSpPr>
        <p:spPr>
          <a:xfrm>
            <a:off x="216000" y="650088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치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실행 후 시스템 업그레이드 사항이 있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경우에는 자동 패치 되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그레이드가 완료되면 재실행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그레이드 사항이 없는 경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바로 사용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04920"/>
            <a:ext cx="21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7.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자동업데이트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285840" y="906480"/>
            <a:ext cx="6022800" cy="50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3333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그룹 14"/>
          <p:cNvGrpSpPr/>
          <p:nvPr/>
        </p:nvGrpSpPr>
        <p:grpSpPr>
          <a:xfrm>
            <a:off x="285840" y="879480"/>
            <a:ext cx="2703600" cy="1871640"/>
            <a:chOff x="285840" y="879480"/>
            <a:chExt cx="2703600" cy="1871640"/>
          </a:xfrm>
        </p:grpSpPr>
        <p:pic>
          <p:nvPicPr>
            <p:cNvPr id="144" name="Picture 15" descr=""/>
            <p:cNvPicPr/>
            <p:nvPr/>
          </p:nvPicPr>
          <p:blipFill>
            <a:blip r:embed="rId1"/>
            <a:stretch/>
          </p:blipFill>
          <p:spPr>
            <a:xfrm>
              <a:off x="285840" y="879480"/>
              <a:ext cx="2703600" cy="18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5" name="Picture 13" descr="C:\Users\user\Desktop\센드플러스 매뉴얼(1)\센드플러스 V3자료\v4네임.png"/>
            <p:cNvPicPr/>
            <p:nvPr/>
          </p:nvPicPr>
          <p:blipFill>
            <a:blip r:embed="rId2"/>
            <a:stretch/>
          </p:blipFill>
          <p:spPr>
            <a:xfrm>
              <a:off x="308160" y="899280"/>
              <a:ext cx="9334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직사각형 13"/>
            <p:cNvSpPr/>
            <p:nvPr/>
          </p:nvSpPr>
          <p:spPr>
            <a:xfrm>
              <a:off x="1206720" y="928440"/>
              <a:ext cx="64764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14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환경설정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2920" y="4786200"/>
            <a:ext cx="66438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실행한 후에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도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을 선택하여 사용자에 맞는 상태를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 파일 추가 시 공급자의 사업자번호와 일치하는 인증서를 검사하기 때문에 미리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등록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사에서 관리하는 고유번호로 이미 발행된 전자문서인지 판단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가 중복된 문서를 발행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아니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가 중복되는 전자문서도 정상 발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거래명세서 발행시 자동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계산서도 함께 발행할 것인지에 대한 여부입니다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③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거래명세서 발행시 자동으로 수량 합산 할지 에 대한 여부입니다 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④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서버설정을 개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운영 서버로 변경할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⑤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사업자번호 별 공인인증서를 관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49" name="굽은 화살표 16"/>
          <p:cNvSpPr/>
          <p:nvPr/>
        </p:nvSpPr>
        <p:spPr>
          <a:xfrm flipV="1">
            <a:off x="1643040" y="2857680"/>
            <a:ext cx="1000080" cy="10000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0" name="모서리가 둥근 직사각형 21"/>
          <p:cNvSpPr/>
          <p:nvPr/>
        </p:nvSpPr>
        <p:spPr>
          <a:xfrm>
            <a:off x="569880" y="1344600"/>
            <a:ext cx="151308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3"/>
          <a:stretch/>
        </p:blipFill>
        <p:spPr>
          <a:xfrm>
            <a:off x="2752560" y="785880"/>
            <a:ext cx="3638880" cy="372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Box 7"/>
          <p:cNvSpPr/>
          <p:nvPr/>
        </p:nvSpPr>
        <p:spPr>
          <a:xfrm>
            <a:off x="5774400" y="1214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5785560" y="19670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5780880" y="26906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5795280" y="34290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3847320" y="40482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3" descr=""/>
          <p:cNvPicPr/>
          <p:nvPr/>
        </p:nvPicPr>
        <p:blipFill>
          <a:blip r:embed="rId1"/>
          <a:stretch/>
        </p:blipFill>
        <p:spPr>
          <a:xfrm>
            <a:off x="326880" y="928800"/>
            <a:ext cx="3517920" cy="357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인증서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59" name="모서리가 둥근 직사각형 27"/>
          <p:cNvSpPr/>
          <p:nvPr/>
        </p:nvSpPr>
        <p:spPr>
          <a:xfrm>
            <a:off x="285840" y="4095720"/>
            <a:ext cx="107136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16000" y="5857920"/>
            <a:ext cx="6643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관리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 창에서 인증서 관리버튼을 누르면 인증서 관리창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 창에서 인증서추가 버튼을 누르면 인증서 등록화면이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아이디와 비밀번호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가입된 아이디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계산서의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자 아이디란이 공란일 때 대체되는 아이디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에 해당하는 사업자번호와 인증서 암호를 작성 한 후에 검색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사업자의 인증서를 등록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1" name="오른쪽 화살표 21"/>
          <p:cNvSpPr/>
          <p:nvPr/>
        </p:nvSpPr>
        <p:spPr>
          <a:xfrm>
            <a:off x="1643040" y="2357280"/>
            <a:ext cx="642960" cy="571680"/>
          </a:xfrm>
          <a:prstGeom prst="rightArrow">
            <a:avLst>
              <a:gd name="adj1" fmla="val 50000"/>
              <a:gd name="adj2" fmla="val 796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2349360" y="1258920"/>
            <a:ext cx="407196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모서리가 둥근 직사각형 29"/>
          <p:cNvSpPr/>
          <p:nvPr/>
        </p:nvSpPr>
        <p:spPr>
          <a:xfrm>
            <a:off x="2421000" y="1476360"/>
            <a:ext cx="847800" cy="311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4" name="오른쪽 화살표 28"/>
          <p:cNvSpPr/>
          <p:nvPr/>
        </p:nvSpPr>
        <p:spPr>
          <a:xfrm rot="5400000">
            <a:off x="4250520" y="2250360"/>
            <a:ext cx="642960" cy="571680"/>
          </a:xfrm>
          <a:prstGeom prst="rightArrow">
            <a:avLst>
              <a:gd name="adj1" fmla="val 50000"/>
              <a:gd name="adj2" fmla="val 796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65" name="Picture 11" descr="C:\Users\user\Desktop\센드플러스 인증서3.PNG"/>
          <p:cNvPicPr/>
          <p:nvPr/>
        </p:nvPicPr>
        <p:blipFill>
          <a:blip r:embed="rId3"/>
          <a:stretch/>
        </p:blipFill>
        <p:spPr>
          <a:xfrm>
            <a:off x="2924280" y="2916360"/>
            <a:ext cx="366696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모서리가 둥근 직사각형 30"/>
          <p:cNvSpPr/>
          <p:nvPr/>
        </p:nvSpPr>
        <p:spPr>
          <a:xfrm>
            <a:off x="5392800" y="4500720"/>
            <a:ext cx="571320" cy="272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인증서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2920" y="4786200"/>
            <a:ext cx="6643800" cy="27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:\Program Files\NPKI\CrossCert\USER\cn=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판매주식회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ou=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ou=sendbill,ou=AccreditedCA,o=CrossCert,c=KR\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등록할 인증서가 저장되어 있는 경로로 이동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한국 전자인증에서 발급받은 공인인증서인 경우에는 아래와 같은 경로로 이동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:\Program Files\NPKI\CrossCert\USER\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사명으로시작하는폴더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한국 전자인증 이외의 업체에서 발급받은 인증서인 경우에는 해당 인증서 업체에 인증서경로를 문의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열기 버튼을 누르면 인증서 경로설정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※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인증서 파일은 보이지 않습니다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.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인증서 경로를 설정하면 됩니다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rcRect l="0" t="0" r="1382" b="1737"/>
          <a:stretch/>
        </p:blipFill>
        <p:spPr>
          <a:xfrm>
            <a:off x="914400" y="928800"/>
            <a:ext cx="4818240" cy="34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모서리가 둥근 직사각형 11"/>
          <p:cNvSpPr/>
          <p:nvPr/>
        </p:nvSpPr>
        <p:spPr>
          <a:xfrm>
            <a:off x="4479840" y="3986280"/>
            <a:ext cx="649440" cy="344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765000" y="928800"/>
            <a:ext cx="5543640" cy="12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소개    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2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2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설치 전 체크사항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3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3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설치하기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4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4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버튼설명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8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5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메뉴설명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 9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6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화면설명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0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7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자동업데이트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5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8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환경설정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6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9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인증서등록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17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0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예외사업자번호등록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0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1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시작하기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2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파일추가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3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파일선택삭제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4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4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새작업 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5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5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전송    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6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6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오류확인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7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7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오류저장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28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8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회원가입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30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19.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오류상황별 대처법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3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20. </a:t>
            </a:r>
            <a:r>
              <a:rPr b="1" lang="ko-KR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참고사항           </a:t>
            </a:r>
            <a:r>
              <a:rPr b="1" lang="en-US" sz="1600" spc="-1" strike="noStrike">
                <a:solidFill>
                  <a:srgbClr val="000000"/>
                </a:solidFill>
                <a:latin typeface="돋움체"/>
                <a:ea typeface="돋움체"/>
              </a:rPr>
              <a:t>----------------------- 33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0.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목차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1720800" y="3429000"/>
            <a:ext cx="489096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Text Box 8"/>
          <p:cNvSpPr/>
          <p:nvPr/>
        </p:nvSpPr>
        <p:spPr>
          <a:xfrm>
            <a:off x="216000" y="6746760"/>
            <a:ext cx="6643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 정보입력 창에서 저장버튼을 누르면 추가된 인증서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인증서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500040" y="1000080"/>
            <a:ext cx="378612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모서리가 둥근 직사각형 20"/>
          <p:cNvSpPr/>
          <p:nvPr/>
        </p:nvSpPr>
        <p:spPr>
          <a:xfrm>
            <a:off x="2876400" y="2976480"/>
            <a:ext cx="714600" cy="344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76" name="굽은 화살표 15"/>
          <p:cNvSpPr/>
          <p:nvPr/>
        </p:nvSpPr>
        <p:spPr>
          <a:xfrm flipV="1">
            <a:off x="714240" y="3429000"/>
            <a:ext cx="1000440" cy="928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그룹 10"/>
          <p:cNvGrpSpPr/>
          <p:nvPr/>
        </p:nvGrpSpPr>
        <p:grpSpPr>
          <a:xfrm>
            <a:off x="115920" y="1090440"/>
            <a:ext cx="3003480" cy="2041560"/>
            <a:chOff x="115920" y="1090440"/>
            <a:chExt cx="3003480" cy="2041560"/>
          </a:xfrm>
        </p:grpSpPr>
        <p:pic>
          <p:nvPicPr>
            <p:cNvPr id="178" name="Picture 10" descr=""/>
            <p:cNvPicPr/>
            <p:nvPr/>
          </p:nvPicPr>
          <p:blipFill>
            <a:blip r:embed="rId1"/>
            <a:stretch/>
          </p:blipFill>
          <p:spPr>
            <a:xfrm>
              <a:off x="115920" y="1090440"/>
              <a:ext cx="3003480" cy="2041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9" name="Picture 9" descr="C:\Users\user\Desktop\센드플러스 매뉴얼(1)\센드플러스 V3자료\v4네임.png"/>
            <p:cNvPicPr/>
            <p:nvPr/>
          </p:nvPicPr>
          <p:blipFill>
            <a:blip r:embed="rId2"/>
            <a:stretch/>
          </p:blipFill>
          <p:spPr>
            <a:xfrm>
              <a:off x="135360" y="1115280"/>
              <a:ext cx="1152000" cy="28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9"/>
            <p:cNvSpPr/>
            <p:nvPr/>
          </p:nvSpPr>
          <p:spPr>
            <a:xfrm>
              <a:off x="1235160" y="1177560"/>
              <a:ext cx="718920" cy="14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181" name="Rectangle 4"/>
          <p:cNvSpPr/>
          <p:nvPr/>
        </p:nvSpPr>
        <p:spPr>
          <a:xfrm>
            <a:off x="0" y="304920"/>
            <a:ext cx="3214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예외 사업자번호 등록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6000" y="585792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예외 사업자번호 관리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올바른 사업자번호인지 검사하는 부분에서 제외할 사업자번호를 등록하는 화면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입력된 사업자번호는 유효한 사업자 번호인지 검사하지 않으니 신중히 등록하시기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3"/>
          <a:stretch/>
        </p:blipFill>
        <p:spPr>
          <a:xfrm>
            <a:off x="3429000" y="1111320"/>
            <a:ext cx="3286080" cy="367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모서리가 둥근 직사각형 6"/>
          <p:cNvSpPr/>
          <p:nvPr/>
        </p:nvSpPr>
        <p:spPr>
          <a:xfrm>
            <a:off x="3571920" y="1446120"/>
            <a:ext cx="2233440" cy="573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85" name="오른쪽 화살표 5"/>
          <p:cNvSpPr/>
          <p:nvPr/>
        </p:nvSpPr>
        <p:spPr>
          <a:xfrm>
            <a:off x="3000240" y="1857240"/>
            <a:ext cx="642960" cy="571680"/>
          </a:xfrm>
          <a:prstGeom prst="rightArrow">
            <a:avLst>
              <a:gd name="adj1" fmla="val 50000"/>
              <a:gd name="adj2" fmla="val 796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86" name="모서리가 둥근 직사각형 3"/>
          <p:cNvSpPr/>
          <p:nvPr/>
        </p:nvSpPr>
        <p:spPr>
          <a:xfrm>
            <a:off x="498600" y="2041560"/>
            <a:ext cx="1728720" cy="226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을 한 후            버튼을 누르거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접속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뉴를 누르면 접속아이디와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밀번호를 요구하는데 이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 가입된 아이디와 비밀번호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하여 로그인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1785960" y="6686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시작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90" name="왼쪽 중괄호 17"/>
          <p:cNvSpPr/>
          <p:nvPr/>
        </p:nvSpPr>
        <p:spPr>
          <a:xfrm flipH="1">
            <a:off x="3071160" y="2214720"/>
            <a:ext cx="500040" cy="2214360"/>
          </a:xfrm>
          <a:custGeom>
            <a:avLst/>
            <a:gdLst>
              <a:gd name="textAreaLeft" fmla="*/ 319320 w 500040"/>
              <a:gd name="textAreaRight" fmla="*/ 500040 w 500040"/>
              <a:gd name="textAreaTop" fmla="*/ 173160 h 2214360"/>
              <a:gd name="textAreaBottom" fmla="*/ 20412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210960" y="9288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방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92" name="Picture 17" descr=""/>
          <p:cNvPicPr/>
          <p:nvPr/>
        </p:nvPicPr>
        <p:blipFill>
          <a:blip r:embed="rId2"/>
          <a:stretch/>
        </p:blipFill>
        <p:spPr>
          <a:xfrm>
            <a:off x="142920" y="1434960"/>
            <a:ext cx="2633760" cy="20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18" descr=""/>
          <p:cNvPicPr/>
          <p:nvPr/>
        </p:nvPicPr>
        <p:blipFill>
          <a:blip r:embed="rId3"/>
          <a:stretch/>
        </p:blipFill>
        <p:spPr>
          <a:xfrm>
            <a:off x="210960" y="3643200"/>
            <a:ext cx="25066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19" descr=""/>
          <p:cNvPicPr/>
          <p:nvPr/>
        </p:nvPicPr>
        <p:blipFill>
          <a:blip r:embed="rId4"/>
          <a:stretch/>
        </p:blipFill>
        <p:spPr>
          <a:xfrm>
            <a:off x="3801960" y="2324160"/>
            <a:ext cx="265752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모서리가 둥근 직사각형 16"/>
          <p:cNvSpPr/>
          <p:nvPr/>
        </p:nvSpPr>
        <p:spPr>
          <a:xfrm>
            <a:off x="127080" y="1941480"/>
            <a:ext cx="865080" cy="203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196" name="모서리가 둥근 직사각형 19"/>
          <p:cNvSpPr/>
          <p:nvPr/>
        </p:nvSpPr>
        <p:spPr>
          <a:xfrm>
            <a:off x="142920" y="4100400"/>
            <a:ext cx="428760" cy="29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8" descr=""/>
          <p:cNvPicPr/>
          <p:nvPr/>
        </p:nvPicPr>
        <p:blipFill>
          <a:blip r:embed="rId1"/>
          <a:stretch/>
        </p:blipFill>
        <p:spPr>
          <a:xfrm>
            <a:off x="795240" y="3429000"/>
            <a:ext cx="5261040" cy="31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 Box 8"/>
          <p:cNvSpPr/>
          <p:nvPr/>
        </p:nvSpPr>
        <p:spPr>
          <a:xfrm>
            <a:off x="216000" y="6746760"/>
            <a:ext cx="6643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혹은          버튼을 누르면 전송할 파일을 선택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때 추가할 파일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 양식에 의해 작성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xl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해당 파일 한 개를 선택하고 열기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개의 파일을 등록시키는 것은 위의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방법을 반복하면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199" name="Picture 8" descr="D:\Project\SendPlusNew\image\addFile.gif"/>
          <p:cNvPicPr/>
          <p:nvPr/>
        </p:nvPicPr>
        <p:blipFill>
          <a:blip r:embed="rId2"/>
          <a:stretch/>
        </p:blipFill>
        <p:spPr>
          <a:xfrm>
            <a:off x="2313000" y="6786720"/>
            <a:ext cx="291960" cy="291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2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파일추가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01" name="왼쪽 중괄호 16"/>
          <p:cNvSpPr/>
          <p:nvPr/>
        </p:nvSpPr>
        <p:spPr>
          <a:xfrm rot="16200000">
            <a:off x="3143160" y="2214360"/>
            <a:ext cx="500040" cy="1785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2040 h 1785960"/>
              <a:gd name="textAreaBottom" fmla="*/ 166392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63"/>
                  <a:pt x="10800" y="4725"/>
                </a:cubicBezTo>
                <a:lnTo>
                  <a:pt x="10800" y="6075"/>
                </a:lnTo>
                <a:cubicBezTo>
                  <a:pt x="10800" y="8438"/>
                  <a:pt x="5400" y="10800"/>
                  <a:pt x="0" y="10800"/>
                </a:cubicBezTo>
                <a:cubicBezTo>
                  <a:pt x="5400" y="10800"/>
                  <a:pt x="10800" y="13163"/>
                  <a:pt x="10800" y="15525"/>
                </a:cubicBezTo>
                <a:lnTo>
                  <a:pt x="10800" y="16875"/>
                </a:lnTo>
                <a:cubicBezTo>
                  <a:pt x="10800" y="192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02" name="그룹 22"/>
          <p:cNvGrpSpPr/>
          <p:nvPr/>
        </p:nvGrpSpPr>
        <p:grpSpPr>
          <a:xfrm>
            <a:off x="210960" y="928800"/>
            <a:ext cx="2646720" cy="1776240"/>
            <a:chOff x="210960" y="928800"/>
            <a:chExt cx="2646720" cy="1776240"/>
          </a:xfrm>
        </p:grpSpPr>
        <p:sp>
          <p:nvSpPr>
            <p:cNvPr id="203" name="TextBox 17"/>
            <p:cNvSpPr/>
            <p:nvPr/>
          </p:nvSpPr>
          <p:spPr>
            <a:xfrm>
              <a:off x="210960" y="928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04" name="Picture 17" descr=""/>
            <p:cNvPicPr/>
            <p:nvPr/>
          </p:nvPicPr>
          <p:blipFill>
            <a:blip r:embed="rId3"/>
            <a:stretch/>
          </p:blipFill>
          <p:spPr>
            <a:xfrm>
              <a:off x="214200" y="1366920"/>
              <a:ext cx="2643480" cy="133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5" name="모서리가 둥근 직사각형 20"/>
            <p:cNvSpPr/>
            <p:nvPr/>
          </p:nvSpPr>
          <p:spPr>
            <a:xfrm>
              <a:off x="981000" y="1763640"/>
              <a:ext cx="287280" cy="285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grpSp>
        <p:nvGrpSpPr>
          <p:cNvPr id="206" name="그룹 23"/>
          <p:cNvGrpSpPr/>
          <p:nvPr/>
        </p:nvGrpSpPr>
        <p:grpSpPr>
          <a:xfrm>
            <a:off x="3933720" y="900000"/>
            <a:ext cx="2605320" cy="1781280"/>
            <a:chOff x="3933720" y="900000"/>
            <a:chExt cx="2605320" cy="1781280"/>
          </a:xfrm>
        </p:grpSpPr>
        <p:sp>
          <p:nvSpPr>
            <p:cNvPr id="207" name="TextBox 17"/>
            <p:cNvSpPr/>
            <p:nvPr/>
          </p:nvSpPr>
          <p:spPr>
            <a:xfrm>
              <a:off x="4174560" y="9000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08" name="Picture 18" descr=""/>
            <p:cNvPicPr/>
            <p:nvPr/>
          </p:nvPicPr>
          <p:blipFill>
            <a:blip r:embed="rId4"/>
            <a:stretch/>
          </p:blipFill>
          <p:spPr>
            <a:xfrm>
              <a:off x="3933720" y="1398240"/>
              <a:ext cx="2605320" cy="128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9" name="모서리가 둥근 직사각형 26"/>
            <p:cNvSpPr/>
            <p:nvPr/>
          </p:nvSpPr>
          <p:spPr>
            <a:xfrm>
              <a:off x="4464000" y="1903320"/>
              <a:ext cx="785880" cy="252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0" descr=""/>
          <p:cNvPicPr/>
          <p:nvPr/>
        </p:nvPicPr>
        <p:blipFill>
          <a:blip r:embed="rId1"/>
          <a:stretch/>
        </p:blipFill>
        <p:spPr>
          <a:xfrm>
            <a:off x="666720" y="1071720"/>
            <a:ext cx="5332320" cy="49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2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파일추가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의 이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자문서 총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한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 건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금액의 합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을 추가한 시간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아이디 별로 그룹화 하여 전자문서의 종류별로 건수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959760" y="28576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884880" y="47862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304920"/>
            <a:ext cx="235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파일선택삭제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삭제할 파일을 선택에 있는 네모박스를 클릭하면 체크 표시가 되고 삭제 버튼을 누르면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체크표시가 되어 선택된 해당 파일만 삭제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여러 개 선택 후에 삭제 버튼을 누르면 선택된 모든 파일이 삭제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50880" y="1000080"/>
            <a:ext cx="544824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모서리가 둥근 직사각형 18"/>
          <p:cNvSpPr/>
          <p:nvPr/>
        </p:nvSpPr>
        <p:spPr>
          <a:xfrm>
            <a:off x="604800" y="1797120"/>
            <a:ext cx="71424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8" descr=""/>
          <p:cNvPicPr/>
          <p:nvPr/>
        </p:nvPicPr>
        <p:blipFill>
          <a:blip r:embed="rId1"/>
          <a:stretch/>
        </p:blipFill>
        <p:spPr>
          <a:xfrm>
            <a:off x="1503360" y="3500280"/>
            <a:ext cx="38307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그룹 34"/>
          <p:cNvGrpSpPr/>
          <p:nvPr/>
        </p:nvGrpSpPr>
        <p:grpSpPr>
          <a:xfrm>
            <a:off x="216000" y="6357960"/>
            <a:ext cx="6643440" cy="1227960"/>
            <a:chOff x="216000" y="6357960"/>
            <a:chExt cx="6643440" cy="1227960"/>
          </a:xfrm>
        </p:grpSpPr>
        <p:sp>
          <p:nvSpPr>
            <p:cNvPr id="221" name="Text Box 8"/>
            <p:cNvSpPr/>
            <p:nvPr/>
          </p:nvSpPr>
          <p:spPr>
            <a:xfrm>
              <a:off x="216000" y="6397560"/>
              <a:ext cx="664344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[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작업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]-[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새작업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]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이나         를 선택하면 선택삭제를 하지 않고 화면을 초기화 합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정기적으로 새작업을 하는 것을 권장합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초기화가 완료되면 파일추가 창이 뜹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◎ </a:t>
              </a:r>
              <a:r>
                <a:rPr b="0" lang="ko-KR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초기화 후에 파일 추가를 하지 않을 땐 취소버튼을 누릅니다</a:t>
              </a:r>
              <a:r>
                <a:rPr b="0" lang="en-US" sz="12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22" name="Picture 8" descr="D:\Project\SendPlusNew\image\new.gif"/>
            <p:cNvPicPr/>
            <p:nvPr/>
          </p:nvPicPr>
          <p:blipFill>
            <a:blip r:embed="rId2"/>
            <a:stretch/>
          </p:blipFill>
          <p:spPr>
            <a:xfrm>
              <a:off x="2025360" y="63579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4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새작업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24" name="왼쪽 중괄호 44"/>
          <p:cNvSpPr/>
          <p:nvPr/>
        </p:nvSpPr>
        <p:spPr>
          <a:xfrm rot="16200000">
            <a:off x="3143160" y="2214360"/>
            <a:ext cx="500040" cy="1785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2040 h 1785960"/>
              <a:gd name="textAreaBottom" fmla="*/ 166392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63"/>
                  <a:pt x="10800" y="4725"/>
                </a:cubicBezTo>
                <a:lnTo>
                  <a:pt x="10800" y="6075"/>
                </a:lnTo>
                <a:cubicBezTo>
                  <a:pt x="10800" y="8438"/>
                  <a:pt x="5400" y="10800"/>
                  <a:pt x="0" y="10800"/>
                </a:cubicBezTo>
                <a:cubicBezTo>
                  <a:pt x="5400" y="10800"/>
                  <a:pt x="10800" y="13163"/>
                  <a:pt x="10800" y="15525"/>
                </a:cubicBezTo>
                <a:lnTo>
                  <a:pt x="10800" y="16875"/>
                </a:lnTo>
                <a:cubicBezTo>
                  <a:pt x="10800" y="192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25" name="그룹 17"/>
          <p:cNvGrpSpPr/>
          <p:nvPr/>
        </p:nvGrpSpPr>
        <p:grpSpPr>
          <a:xfrm>
            <a:off x="342720" y="871560"/>
            <a:ext cx="2646720" cy="1776240"/>
            <a:chOff x="342720" y="871560"/>
            <a:chExt cx="2646720" cy="1776240"/>
          </a:xfrm>
        </p:grpSpPr>
        <p:sp>
          <p:nvSpPr>
            <p:cNvPr id="226" name="TextBox 17"/>
            <p:cNvSpPr/>
            <p:nvPr/>
          </p:nvSpPr>
          <p:spPr>
            <a:xfrm>
              <a:off x="342720" y="87156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27" name="Picture 17" descr=""/>
            <p:cNvPicPr/>
            <p:nvPr/>
          </p:nvPicPr>
          <p:blipFill>
            <a:blip r:embed="rId3"/>
            <a:stretch/>
          </p:blipFill>
          <p:spPr>
            <a:xfrm>
              <a:off x="345960" y="1309680"/>
              <a:ext cx="2643480" cy="133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8" name="모서리가 둥근 직사각형 20"/>
            <p:cNvSpPr/>
            <p:nvPr/>
          </p:nvSpPr>
          <p:spPr>
            <a:xfrm>
              <a:off x="836640" y="1662120"/>
              <a:ext cx="357120" cy="357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grpSp>
        <p:nvGrpSpPr>
          <p:cNvPr id="229" name="그룹 21"/>
          <p:cNvGrpSpPr/>
          <p:nvPr/>
        </p:nvGrpSpPr>
        <p:grpSpPr>
          <a:xfrm>
            <a:off x="3929040" y="847800"/>
            <a:ext cx="2604960" cy="1824120"/>
            <a:chOff x="3929040" y="847800"/>
            <a:chExt cx="2604960" cy="1824120"/>
          </a:xfrm>
        </p:grpSpPr>
        <p:sp>
          <p:nvSpPr>
            <p:cNvPr id="230" name="TextBox 17"/>
            <p:cNvSpPr/>
            <p:nvPr/>
          </p:nvSpPr>
          <p:spPr>
            <a:xfrm>
              <a:off x="4169880" y="847800"/>
              <a:ext cx="5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방법</a:t>
              </a: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pic>
          <p:nvPicPr>
            <p:cNvPr id="231" name="Picture 18" descr=""/>
            <p:cNvPicPr/>
            <p:nvPr/>
          </p:nvPicPr>
          <p:blipFill>
            <a:blip r:embed="rId4"/>
            <a:stretch/>
          </p:blipFill>
          <p:spPr>
            <a:xfrm>
              <a:off x="3929040" y="1303560"/>
              <a:ext cx="2604960" cy="136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2" name="모서리가 둥근 직사각형 24"/>
            <p:cNvSpPr/>
            <p:nvPr/>
          </p:nvSpPr>
          <p:spPr>
            <a:xfrm>
              <a:off x="4570200" y="1698840"/>
              <a:ext cx="785880" cy="252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5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전송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210960" y="9288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방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5" name="TextBox 17"/>
          <p:cNvSpPr/>
          <p:nvPr/>
        </p:nvSpPr>
        <p:spPr>
          <a:xfrm>
            <a:off x="4170240" y="9288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방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6000" y="674676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은 데이타탭에서만 가능합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상건만 전송이 되고 정상적으로 전송이 된 전자문서는 화면에서 사라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상건이 아니어 전송이 되지 않은 전자문서는 ‘전송후오류’로 데이터 화면에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37" name="Picture 14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16080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15" descr=""/>
          <p:cNvPicPr/>
          <p:nvPr/>
        </p:nvPicPr>
        <p:blipFill>
          <a:blip r:embed="rId2"/>
          <a:stretch/>
        </p:blipFill>
        <p:spPr>
          <a:xfrm>
            <a:off x="3500280" y="1403280"/>
            <a:ext cx="314352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모서리가 둥근 직사각형 29"/>
          <p:cNvSpPr/>
          <p:nvPr/>
        </p:nvSpPr>
        <p:spPr>
          <a:xfrm>
            <a:off x="4287960" y="2502000"/>
            <a:ext cx="1071360" cy="2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40" name="모서리가 둥근 직사각형 21"/>
          <p:cNvSpPr/>
          <p:nvPr/>
        </p:nvSpPr>
        <p:spPr>
          <a:xfrm>
            <a:off x="1628640" y="1982880"/>
            <a:ext cx="3574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41" name="모서리가 둥근 직사각형 23"/>
          <p:cNvSpPr/>
          <p:nvPr/>
        </p:nvSpPr>
        <p:spPr>
          <a:xfrm>
            <a:off x="836640" y="232884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6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확인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16000" y="6746760"/>
            <a:ext cx="664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후오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비회원 이라는 글씨를 클릭하게 되면 그림과 같이 오류를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244" name="그룹 9"/>
          <p:cNvGrpSpPr/>
          <p:nvPr/>
        </p:nvGrpSpPr>
        <p:grpSpPr>
          <a:xfrm>
            <a:off x="334800" y="1076400"/>
            <a:ext cx="6131160" cy="4257720"/>
            <a:chOff x="334800" y="1076400"/>
            <a:chExt cx="6131160" cy="4257720"/>
          </a:xfrm>
        </p:grpSpPr>
        <p:grpSp>
          <p:nvGrpSpPr>
            <p:cNvPr id="245" name="그룹 15"/>
            <p:cNvGrpSpPr/>
            <p:nvPr/>
          </p:nvGrpSpPr>
          <p:grpSpPr>
            <a:xfrm>
              <a:off x="334800" y="1076400"/>
              <a:ext cx="2406600" cy="2038320"/>
              <a:chOff x="334800" y="1076400"/>
              <a:chExt cx="2406600" cy="2038320"/>
            </a:xfrm>
          </p:grpSpPr>
          <p:pic>
            <p:nvPicPr>
              <p:cNvPr id="246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34800" y="1076400"/>
                <a:ext cx="2406600" cy="20383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47" name="오른쪽 화살표 17"/>
              <p:cNvSpPr/>
              <p:nvPr/>
            </p:nvSpPr>
            <p:spPr>
              <a:xfrm>
                <a:off x="1428480" y="2148120"/>
                <a:ext cx="714240" cy="642960"/>
              </a:xfrm>
              <a:prstGeom prst="rightArrow">
                <a:avLst>
                  <a:gd name="adj1" fmla="val 50000"/>
                  <a:gd name="adj2" fmla="val 89491"/>
                </a:avLst>
              </a:prstGeom>
              <a:solidFill>
                <a:srgbClr val="00cc99"/>
              </a:solidFill>
              <a:ln w="25560">
                <a:solidFill>
                  <a:srgbClr val="0095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휴먼옛체"/>
                </a:endParaRPr>
              </a:p>
            </p:txBody>
          </p:sp>
          <p:sp>
            <p:nvSpPr>
              <p:cNvPr id="248" name="모서리가 둥근 직사각형 14"/>
              <p:cNvSpPr/>
              <p:nvPr/>
            </p:nvSpPr>
            <p:spPr>
              <a:xfrm>
                <a:off x="493560" y="2691000"/>
                <a:ext cx="785880" cy="2142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휴먼옛체"/>
                </a:endParaRPr>
              </a:p>
            </p:txBody>
          </p:sp>
        </p:grpSp>
        <p:pic>
          <p:nvPicPr>
            <p:cNvPr id="249" name="Picture 9" descr=""/>
            <p:cNvPicPr/>
            <p:nvPr/>
          </p:nvPicPr>
          <p:blipFill>
            <a:blip r:embed="rId2"/>
            <a:stretch/>
          </p:blipFill>
          <p:spPr>
            <a:xfrm>
              <a:off x="2249280" y="2000160"/>
              <a:ext cx="4216680" cy="333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34800" y="928800"/>
            <a:ext cx="240696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1536840" y="2071800"/>
            <a:ext cx="502416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2" name="굽은 화살표 13"/>
          <p:cNvSpPr/>
          <p:nvPr/>
        </p:nvSpPr>
        <p:spPr>
          <a:xfrm rot="5400000">
            <a:off x="3035520" y="1178640"/>
            <a:ext cx="714600" cy="7858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2071800" y="5506920"/>
            <a:ext cx="3333600" cy="143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아래쪽 화살표 19"/>
          <p:cNvSpPr/>
          <p:nvPr/>
        </p:nvSpPr>
        <p:spPr>
          <a:xfrm>
            <a:off x="3500280" y="5000760"/>
            <a:ext cx="500400" cy="571320"/>
          </a:xfrm>
          <a:prstGeom prst="downArrow">
            <a:avLst>
              <a:gd name="adj1" fmla="val 50000"/>
              <a:gd name="adj2" fmla="val 753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7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저장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216000" y="7121520"/>
            <a:ext cx="6643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 저장 버튼을 누르면 파일을 저장할 수 있는 창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저장위치와 이름을 지정해주고 저장버튼을 누르면 지정한 위치에 지정한 이름을 가진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로 오류 난 전자문서가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57" name="모서리가 둥근 직사각형 22"/>
          <p:cNvSpPr/>
          <p:nvPr/>
        </p:nvSpPr>
        <p:spPr>
          <a:xfrm>
            <a:off x="1197000" y="1692360"/>
            <a:ext cx="114300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58" name="모서리가 둥근 직사각형 23"/>
          <p:cNvSpPr/>
          <p:nvPr/>
        </p:nvSpPr>
        <p:spPr>
          <a:xfrm>
            <a:off x="5715000" y="4572000"/>
            <a:ext cx="8571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59" name="모서리가 둥근 직사각형 24"/>
          <p:cNvSpPr/>
          <p:nvPr/>
        </p:nvSpPr>
        <p:spPr>
          <a:xfrm>
            <a:off x="3278160" y="4605480"/>
            <a:ext cx="92880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333360" y="857160"/>
            <a:ext cx="61912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대량의 전자문서를 전송하려고 할 때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Bill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에서 한 건씩 전송 하는 것이 아니라 통합된 양식에 따라 작성된 전자문서를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를 이용하여 일괄전송 하는 프로그램 입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란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는 전자문서를 통합파일 양식에 따라 작성한 파일을 프로그램에서 추가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송 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또한 대량 회원가입 기능을 추가하여 빠르고 쉽게 대량 회원을 가입 시킬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※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수정세금계산서 작성시 당초승인번호 컬럼 추가됨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ndPlusV4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설치 파일및 통합파일양식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Bill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홈페이지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료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신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4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치프로그램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※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치프로그램 및 매뉴얼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SendPlus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통합양식 포함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소개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6286320" cy="5410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7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저장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16000" y="7121520"/>
            <a:ext cx="664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데이터는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거래명세서 형태의 표준 포멧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으로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을 확인하고 해당 오류 사항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의 내용을 지우지 않아도 정상적으로 파일이 추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63" name="모서리가 둥근 직사각형 9"/>
          <p:cNvSpPr/>
          <p:nvPr/>
        </p:nvSpPr>
        <p:spPr>
          <a:xfrm>
            <a:off x="2428920" y="2286000"/>
            <a:ext cx="335736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그룹 10"/>
          <p:cNvGrpSpPr/>
          <p:nvPr/>
        </p:nvGrpSpPr>
        <p:grpSpPr>
          <a:xfrm>
            <a:off x="214200" y="1192320"/>
            <a:ext cx="6429600" cy="4757760"/>
            <a:chOff x="214200" y="1192320"/>
            <a:chExt cx="6429600" cy="4757760"/>
          </a:xfrm>
        </p:grpSpPr>
        <p:pic>
          <p:nvPicPr>
            <p:cNvPr id="265" name="Picture 10" descr=""/>
            <p:cNvPicPr/>
            <p:nvPr/>
          </p:nvPicPr>
          <p:blipFill>
            <a:blip r:embed="rId1"/>
            <a:stretch/>
          </p:blipFill>
          <p:spPr>
            <a:xfrm>
              <a:off x="214200" y="1192320"/>
              <a:ext cx="6429600" cy="4757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6" name="Picture 9" descr="C:\Users\user\Desktop\센드플러스 매뉴얼(1)\센드플러스 V3자료\v4네임.png"/>
            <p:cNvPicPr/>
            <p:nvPr/>
          </p:nvPicPr>
          <p:blipFill>
            <a:blip r:embed="rId2"/>
            <a:stretch/>
          </p:blipFill>
          <p:spPr>
            <a:xfrm>
              <a:off x="235800" y="1208880"/>
              <a:ext cx="9334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직사각형 9"/>
            <p:cNvSpPr/>
            <p:nvPr/>
          </p:nvSpPr>
          <p:spPr>
            <a:xfrm>
              <a:off x="1123560" y="1258920"/>
              <a:ext cx="433080" cy="72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  <p:sp>
        <p:nvSpPr>
          <p:cNvPr id="268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8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회원가입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16000" y="6572160"/>
            <a:ext cx="66434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 버튼으로 전자 문서의 선택삭제와 동일한 방법으로 추가한 파일을 선택 후 삭제가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능합니다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②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한 파일을 더블 클릭하면 화면 하단에 선택한 파일의 회원정보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초기화 버튼으로 회원가입 화면을 초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버튼을 누르면 정상인 회원데이터만 전송이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 저장 버튼으로 오류 난 회원데이터를 저장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셀렉트 박스로 데이터구분에 따라 회원데이터를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0" name="모서리가 둥근 직사각형 21"/>
          <p:cNvSpPr/>
          <p:nvPr/>
        </p:nvSpPr>
        <p:spPr>
          <a:xfrm flipV="1">
            <a:off x="5396040" y="2054160"/>
            <a:ext cx="6429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6003000" y="1652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3026520" y="43578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3" name="TextBox 21"/>
          <p:cNvSpPr/>
          <p:nvPr/>
        </p:nvSpPr>
        <p:spPr>
          <a:xfrm>
            <a:off x="2170080" y="2786040"/>
            <a:ext cx="2373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자문서 파일 추가하는 방법과 동일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0" y="304920"/>
            <a:ext cx="292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사항별 대처법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14200" y="944640"/>
            <a:ext cx="6500880" cy="72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엑셀파일 업로드 후 오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추가하려는 파일의 문서종류를 알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양식 규약을 확인한 후 추가하기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엑셀 양식 저장 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97-200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xls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저장 하여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양식에 헤더를 포함 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97-200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xls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저장 후 업로드 하면 업로드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할 수 없는 파일양식이라고 나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헤더부분 삭제 후 저장하여 다시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발행업체 사업자번호에 해당하는 등록된 인증서가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사업자번호에 해당하는 인증서가 등록 되지 않은 상태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실행 시킨후 상단에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도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→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인증서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보를 입력한후 인증서를 등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       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 내역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미등록된 세금계산서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가 중복 되어 있는 데이터가 있는지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동일한 고유번호가 없을 경우 이미 등록 되어 있는 세금계산서인지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회원연결 정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BILL_MATCH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조회에 실패하였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구분 또는 입력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N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연결이 되어 있는지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사업자번호의 회사정보 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MI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정보를 조회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센드빌에 회원 가입이 되어 있지 않은 상태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원가입 후 전송하거나 비회원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문서로 전송하여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는 탈퇴한 회원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확인후 다시보내시기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대표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지정 되어 있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탈퇴 처리후 대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변경하지 않은 경우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지원센터나 해당 담당자에게 문의 하시어 대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변경 요청을 하셔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0" y="304920"/>
            <a:ext cx="292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19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오류사항별 대처법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7" name="직사각형 2"/>
          <p:cNvSpPr/>
          <p:nvPr/>
        </p:nvSpPr>
        <p:spPr>
          <a:xfrm>
            <a:off x="285840" y="928800"/>
            <a:ext cx="642924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담당자명이 점으로 입력 되었거나 미입력 되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담당자명을 입력 되지 않은 경우 이므로 담당자명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성일이 유효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성일자가 미래일자로 작성이 되어 있는 상태 이므로 해당일자에 전송을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하시거나 작성일자를 당일 또는 과거 일자로 변경해주셔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유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가 잘못 입력 되었거나  미입력 되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최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세율 종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()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자 회사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공급받는자 회사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품목의 거래일자 등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모든 데이터가 잘못 입력 되었거나 미입력 또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점으로 입력되었다는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오류내역이 확인 되는 경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- Plu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업로드 파일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젼이 아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V2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버젼으로 잘못 작성 된것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작성된 파일을 확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142920" y="60865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록시 서버를 이용하여 센드플러스 연결 설정을 할 수 있게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능이 추가되었습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의 주석 부분을 해제해 주시고 각 정보를 입력해 주시면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됩니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304920"/>
            <a:ext cx="292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20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참고사항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80" name="그림 4" descr="configflus.jpg"/>
          <p:cNvPicPr/>
          <p:nvPr/>
        </p:nvPicPr>
        <p:blipFill>
          <a:blip r:embed="rId1"/>
          <a:stretch/>
        </p:blipFill>
        <p:spPr>
          <a:xfrm>
            <a:off x="0" y="1116000"/>
            <a:ext cx="685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8"/>
          <p:cNvSpPr/>
          <p:nvPr/>
        </p:nvSpPr>
        <p:spPr>
          <a:xfrm>
            <a:off x="1428840" y="400068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구축 및 운영 문의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1577-3925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2286000" y="3335400"/>
            <a:ext cx="21430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14240" y="1554120"/>
          <a:ext cx="5378760" cy="5518080"/>
        </p:xfrm>
        <a:graphic>
          <a:graphicData uri="http://schemas.openxmlformats.org/drawingml/2006/table">
            <a:tbl>
              <a:tblPr/>
              <a:tblGrid>
                <a:gridCol w="698760"/>
                <a:gridCol w="2232000"/>
                <a:gridCol w="1224000"/>
                <a:gridCol w="122400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코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종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순발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역발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02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20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거래명세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거래명세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수탁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55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위수탁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수탁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91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회원위수탁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0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인매출세금계산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0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Z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외부입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세금계산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024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Y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외부입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계산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휴먼옛체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cc99"/>
                      </a:solidFill>
                    </a:lnL>
                    <a:lnR w="5760">
                      <a:solidFill>
                        <a:srgbClr val="00cc99"/>
                      </a:solidFill>
                    </a:lnR>
                    <a:lnT w="5760">
                      <a:solidFill>
                        <a:srgbClr val="00cc99"/>
                      </a:solidFill>
                    </a:lnT>
                    <a:lnB w="5760">
                      <a:solidFill>
                        <a:srgbClr val="00cc99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6" name="직사각형 24"/>
          <p:cNvSpPr/>
          <p:nvPr/>
        </p:nvSpPr>
        <p:spPr>
          <a:xfrm>
            <a:off x="876240" y="1090440"/>
            <a:ext cx="50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바탕체"/>
                <a:ea typeface="바탕체"/>
              </a:rPr>
              <a:t>&lt;&lt; SendPlusV4</a:t>
            </a:r>
            <a:r>
              <a:rPr b="1" lang="ko-KR" sz="1600" spc="-1" strike="noStrike">
                <a:solidFill>
                  <a:srgbClr val="000000"/>
                </a:solidFill>
                <a:latin typeface="바탕체"/>
                <a:ea typeface="바탕체"/>
              </a:rPr>
              <a:t>로 전송 가능한 문서의 종류 </a:t>
            </a:r>
            <a:r>
              <a:rPr b="1" lang="en-US" sz="1600" spc="-1" strike="noStrike">
                <a:solidFill>
                  <a:srgbClr val="000000"/>
                </a:solidFill>
                <a:latin typeface="바탕체"/>
                <a:ea typeface="바탕체"/>
              </a:rPr>
              <a:t>&gt;&gt;</a:t>
            </a:r>
            <a:endParaRPr b="0" lang="en-US" sz="16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33360" y="7143840"/>
            <a:ext cx="619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TCP/IP 19000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번 포트를 통한 데이터 송수신이 가능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network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환경이어야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만약 포트가 열려 있지 않다면 귀사의 시스템 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리자에게 요청을 해야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Window 2000 / XP / Vista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버전 이어야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304920"/>
            <a:ext cx="2643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 전 체크사항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214200" y="6281640"/>
            <a:ext cx="6400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설치하기 위해서는 약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200MB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의 여유공간이 필요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Bil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홈페이지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-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자료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4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을 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다운로드 해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SendPlusV3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를 설치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설치 후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[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시작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]-[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프로그램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]-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[SendPlusV4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이나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바탕화면에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  <a:ea typeface="굴림"/>
              </a:rPr>
              <a:t>SendPlusV4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아이콘으로 실행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79200" y="861840"/>
            <a:ext cx="6699600" cy="5072400"/>
          </a:xfrm>
          <a:prstGeom prst="rect">
            <a:avLst/>
          </a:prstGeom>
          <a:ln w="0">
            <a:noFill/>
          </a:ln>
        </p:spPr>
      </p:pic>
      <p:sp>
        <p:nvSpPr>
          <p:cNvPr id="62" name="모서리가 둥근 직사각형 9"/>
          <p:cNvSpPr/>
          <p:nvPr/>
        </p:nvSpPr>
        <p:spPr>
          <a:xfrm>
            <a:off x="1754280" y="4859280"/>
            <a:ext cx="863640" cy="86508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865080"/>
              <a:gd name="textAreaBottom" fmla="*/ 822960 h 8650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3" name="모서리가 둥근 직사각형 7"/>
          <p:cNvSpPr/>
          <p:nvPr/>
        </p:nvSpPr>
        <p:spPr>
          <a:xfrm>
            <a:off x="1566720" y="3943440"/>
            <a:ext cx="4464360" cy="194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0"/>
          <p:cNvSpPr/>
          <p:nvPr/>
        </p:nvSpPr>
        <p:spPr>
          <a:xfrm>
            <a:off x="404640" y="829944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다음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클릭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04640" y="421488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다운로드 된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SendPlusV4_Setup.exe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파일을 더블클릭 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28760" y="2500200"/>
            <a:ext cx="2071440" cy="35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687240" y="4714920"/>
            <a:ext cx="454032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모서리가 둥근 직사각형 13"/>
          <p:cNvSpPr/>
          <p:nvPr/>
        </p:nvSpPr>
        <p:spPr>
          <a:xfrm>
            <a:off x="3643200" y="752616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404640" y="829944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치가 진행됩니다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04640" y="421488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설치시작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클릭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482760" y="971640"/>
            <a:ext cx="4576680" cy="31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모서리가 둥근 직사각형 14"/>
          <p:cNvSpPr/>
          <p:nvPr/>
        </p:nvSpPr>
        <p:spPr>
          <a:xfrm>
            <a:off x="3468600" y="3786120"/>
            <a:ext cx="7858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541440" y="4694400"/>
            <a:ext cx="4559040" cy="31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"/>
          <p:cNvSpPr/>
          <p:nvPr/>
        </p:nvSpPr>
        <p:spPr>
          <a:xfrm>
            <a:off x="404640" y="4214880"/>
            <a:ext cx="61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확인”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클릭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설치하기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rcRect l="0" t="776" r="0" b="0"/>
          <a:stretch/>
        </p:blipFill>
        <p:spPr>
          <a:xfrm>
            <a:off x="558720" y="900000"/>
            <a:ext cx="460692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모서리가 둥근 직사각형 8"/>
          <p:cNvSpPr/>
          <p:nvPr/>
        </p:nvSpPr>
        <p:spPr>
          <a:xfrm>
            <a:off x="4299120" y="3770280"/>
            <a:ext cx="7855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휴먼옛체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304920"/>
            <a:ext cx="207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휴먼옛체"/>
              </a:rPr>
              <a:t>버튼설명</a:t>
            </a:r>
            <a:r>
              <a:rPr b="0" lang="en-US" sz="2000" spc="-1" strike="noStrike">
                <a:solidFill>
                  <a:srgbClr val="000000"/>
                </a:solidFill>
                <a:latin typeface="휴먼옛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휴먼옛체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14200" y="5857920"/>
            <a:ext cx="6400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인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센드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Passwor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로그인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아웃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그아웃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새작업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기존에 추가된 파일을 화면에서 지우고 파일을 추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파일추가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회원가입 문서를 제외한 모든 문서를 불러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전송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데이터탭을 선택했을 때만 활성화가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센드빌 관리자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MyFolder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로 이동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고객님께서 전송한 내역을 웹 화면으로 조회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◎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종료 버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프로그램을 종료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휴먼옛체"/>
            </a:endParaRPr>
          </a:p>
        </p:txBody>
      </p:sp>
      <p:grpSp>
        <p:nvGrpSpPr>
          <p:cNvPr id="82" name="그룹 20"/>
          <p:cNvGrpSpPr/>
          <p:nvPr/>
        </p:nvGrpSpPr>
        <p:grpSpPr>
          <a:xfrm>
            <a:off x="357120" y="1273320"/>
            <a:ext cx="2383560" cy="3797640"/>
            <a:chOff x="357120" y="1273320"/>
            <a:chExt cx="2383560" cy="3797640"/>
          </a:xfrm>
        </p:grpSpPr>
        <p:pic>
          <p:nvPicPr>
            <p:cNvPr id="83" name="Picture 2" descr="D:\Project\Package\SendPlusNew\image\connect.gif"/>
            <p:cNvPicPr/>
            <p:nvPr/>
          </p:nvPicPr>
          <p:blipFill>
            <a:blip r:embed="rId1"/>
            <a:stretch/>
          </p:blipFill>
          <p:spPr>
            <a:xfrm>
              <a:off x="357120" y="128520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" descr="D:\Project\Package\SendPlusNew\image\noCon.gif"/>
            <p:cNvPicPr/>
            <p:nvPr/>
          </p:nvPicPr>
          <p:blipFill>
            <a:blip r:embed="rId2"/>
            <a:stretch/>
          </p:blipFill>
          <p:spPr>
            <a:xfrm>
              <a:off x="357120" y="185688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" descr="D:\Project\Package\SendPlusNew\image\new.gif"/>
            <p:cNvPicPr/>
            <p:nvPr/>
          </p:nvPicPr>
          <p:blipFill>
            <a:blip r:embed="rId3"/>
            <a:stretch/>
          </p:blipFill>
          <p:spPr>
            <a:xfrm>
              <a:off x="357120" y="242856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D:\Project\Package\SendPlusNew\image\addFile.gif"/>
            <p:cNvPicPr/>
            <p:nvPr/>
          </p:nvPicPr>
          <p:blipFill>
            <a:blip r:embed="rId4"/>
            <a:stretch/>
          </p:blipFill>
          <p:spPr>
            <a:xfrm>
              <a:off x="357120" y="300024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D:\Project\Package\SendPlusNew\image\send.gif"/>
            <p:cNvPicPr/>
            <p:nvPr/>
          </p:nvPicPr>
          <p:blipFill>
            <a:blip r:embed="rId5"/>
            <a:stretch/>
          </p:blipFill>
          <p:spPr>
            <a:xfrm>
              <a:off x="357120" y="357156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D:\Project\Package\SendPlusNew\image\adm.gif"/>
            <p:cNvPicPr/>
            <p:nvPr/>
          </p:nvPicPr>
          <p:blipFill>
            <a:blip r:embed="rId6"/>
            <a:stretch/>
          </p:blipFill>
          <p:spPr>
            <a:xfrm>
              <a:off x="357120" y="414324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D:\Project\Package\SendPlusNew\image\exit.gif"/>
            <p:cNvPicPr/>
            <p:nvPr/>
          </p:nvPicPr>
          <p:blipFill>
            <a:blip r:embed="rId7"/>
            <a:stretch/>
          </p:blipFill>
          <p:spPr>
            <a:xfrm>
              <a:off x="357120" y="471492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12"/>
            <p:cNvSpPr/>
            <p:nvPr/>
          </p:nvSpPr>
          <p:spPr>
            <a:xfrm>
              <a:off x="1019520" y="1273320"/>
              <a:ext cx="110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인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1" name="TextBox 13"/>
            <p:cNvSpPr/>
            <p:nvPr/>
          </p:nvSpPr>
          <p:spPr>
            <a:xfrm>
              <a:off x="1066320" y="185688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로그아웃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19520" y="2428560"/>
              <a:ext cx="110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새작업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1066320" y="300024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파일추가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972720" y="3571560"/>
              <a:ext cx="96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전송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5" name="TextBox 17"/>
            <p:cNvSpPr/>
            <p:nvPr/>
          </p:nvSpPr>
          <p:spPr>
            <a:xfrm>
              <a:off x="1168920" y="414324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센드빌 관리자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  <p:sp>
          <p:nvSpPr>
            <p:cNvPr id="96" name="TextBox 18"/>
            <p:cNvSpPr/>
            <p:nvPr/>
          </p:nvSpPr>
          <p:spPr>
            <a:xfrm>
              <a:off x="972720" y="4702680"/>
              <a:ext cx="96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종료 버튼</a:t>
              </a:r>
              <a:endParaRPr b="0" lang="en-US" sz="1800" spc="-1" strike="noStrike">
                <a:solidFill>
                  <a:srgbClr val="000000"/>
                </a:solidFill>
                <a:latin typeface="휴먼옛체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4:51:39Z</dcterms:created>
  <dc:creator>넷매니아</dc:creator>
  <dc:description/>
  <dc:language>en-US</dc:language>
  <cp:lastModifiedBy>user</cp:lastModifiedBy>
  <dcterms:modified xsi:type="dcterms:W3CDTF">2022-07-08T05:58:24Z</dcterms:modified>
  <cp:revision>528</cp:revision>
  <dc:subject/>
  <dc:title>1. 설치하기</dc:title>
</cp:coreProperties>
</file>