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0.png" ContentType="image/png"/>
  <Override PartName="/ppt/media/image6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8.png" ContentType="image/png"/>
  <Override PartName="/ppt/media/image30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16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BF0-B069-44BA-8AEE-AB5EB00C5E9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2DBB-62A2-46A3-A80F-7F7FB79759F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F1C1-A7CF-44B1-9382-CBC7CC24796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D00-BF2E-4CC8-A44D-EADEE27293C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E6D-8E0F-4E35-8808-E6696567000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790A-2124-4538-AA4C-2112920527B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2F1-27FE-4C97-A682-A4CBA345E6A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723E-486F-4C41-8428-591AAED5D1F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52280" y="8763120"/>
            <a:ext cx="6553440" cy="759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189000" y="884232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5102280" y="88059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휴먼옛체"/>
              </a:rPr>
              <a:t>Page No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fld id="{F886D9C6-DD10-4390-BBEF-F90B29111F9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2280" y="546120"/>
            <a:ext cx="6553440" cy="763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5500800" y="142920"/>
            <a:ext cx="1171440" cy="342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5470560" y="133200"/>
            <a:ext cx="1171440" cy="2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1.png"/><Relationship Id="rId3" Type="http://schemas.openxmlformats.org/officeDocument/2006/relationships/image" Target="../media/image46.png"/><Relationship Id="rId4" Type="http://schemas.openxmlformats.org/officeDocument/2006/relationships/image" Target="../media/image48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그룹 3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50" name="Picture 2" descr="D:\업무\_Plus\SendPlusV3\Manual_Main_Imag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그림 3" descr="C:\Users\user\Desktop\sendbill.PNG"/>
            <p:cNvPicPr/>
            <p:nvPr/>
          </p:nvPicPr>
          <p:blipFill>
            <a:blip r:embed="rId3"/>
            <a:stretch/>
          </p:blipFill>
          <p:spPr>
            <a:xfrm>
              <a:off x="404640" y="2916000"/>
              <a:ext cx="201600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그룹 19"/>
          <p:cNvGrpSpPr/>
          <p:nvPr/>
        </p:nvGrpSpPr>
        <p:grpSpPr>
          <a:xfrm>
            <a:off x="358920" y="1022400"/>
            <a:ext cx="5518080" cy="1020600"/>
            <a:chOff x="358920" y="1022400"/>
            <a:chExt cx="5518080" cy="1020600"/>
          </a:xfrm>
        </p:grpSpPr>
        <p:pic>
          <p:nvPicPr>
            <p:cNvPr id="99" name="Picture 4" descr=""/>
            <p:cNvPicPr/>
            <p:nvPr/>
          </p:nvPicPr>
          <p:blipFill>
            <a:blip r:embed="rId1"/>
            <a:stretch/>
          </p:blipFill>
          <p:spPr>
            <a:xfrm>
              <a:off x="358920" y="1022400"/>
              <a:ext cx="1069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/>
            <p:cNvSpPr/>
            <p:nvPr/>
          </p:nvSpPr>
          <p:spPr>
            <a:xfrm>
              <a:off x="1428840" y="1093680"/>
              <a:ext cx="444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인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접속을 위한 사용자 인증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아웃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접속 종료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프로그램 종료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101" name="그룹 17"/>
          <p:cNvGrpSpPr/>
          <p:nvPr/>
        </p:nvGrpSpPr>
        <p:grpSpPr>
          <a:xfrm>
            <a:off x="358920" y="5214960"/>
            <a:ext cx="5948280" cy="1000080"/>
            <a:chOff x="358920" y="5214960"/>
            <a:chExt cx="5948280" cy="1000080"/>
          </a:xfrm>
        </p:grpSpPr>
        <p:pic>
          <p:nvPicPr>
            <p:cNvPr id="102" name="Picture 6" descr=""/>
            <p:cNvPicPr/>
            <p:nvPr/>
          </p:nvPicPr>
          <p:blipFill>
            <a:blip r:embed="rId2"/>
            <a:stretch/>
          </p:blipFill>
          <p:spPr>
            <a:xfrm>
              <a:off x="358920" y="5214960"/>
              <a:ext cx="113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8"/>
            <p:cNvSpPr/>
            <p:nvPr/>
          </p:nvSpPr>
          <p:spPr>
            <a:xfrm>
              <a:off x="1571760" y="5236920"/>
              <a:ext cx="473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기존에 추가한 파일을 지우고 신규 파일 추가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파일 추가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통합파일 양식에 맞게 작성된 파일 추가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송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추가된 전자문서 중 정상 데이터 전송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104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메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105" name="그룹 18"/>
          <p:cNvGrpSpPr/>
          <p:nvPr/>
        </p:nvGrpSpPr>
        <p:grpSpPr>
          <a:xfrm>
            <a:off x="285840" y="2363760"/>
            <a:ext cx="6167520" cy="2521800"/>
            <a:chOff x="285840" y="2363760"/>
            <a:chExt cx="6167520" cy="2521800"/>
          </a:xfrm>
        </p:grpSpPr>
        <p:sp>
          <p:nvSpPr>
            <p:cNvPr id="106" name="Text Box 8"/>
            <p:cNvSpPr/>
            <p:nvPr/>
          </p:nvSpPr>
          <p:spPr>
            <a:xfrm>
              <a:off x="285840" y="3423600"/>
              <a:ext cx="616752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환경설정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자문서 전송에 관련된 환경설정 및  인증서 관리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파일보기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일자 별 프로그램 실행부터 종료까지  실행한 모든 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내용을 확인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예외 사업자번호 관리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사업자번호 검사를 하지 않는 예외적인 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사업자번호를 등록 및 삭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107" name="Picture 13" descr=""/>
            <p:cNvPicPr/>
            <p:nvPr/>
          </p:nvPicPr>
          <p:blipFill>
            <a:blip r:embed="rId3"/>
            <a:stretch/>
          </p:blipFill>
          <p:spPr>
            <a:xfrm>
              <a:off x="357120" y="2363760"/>
              <a:ext cx="193932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그룹 16"/>
          <p:cNvGrpSpPr/>
          <p:nvPr/>
        </p:nvGrpSpPr>
        <p:grpSpPr>
          <a:xfrm>
            <a:off x="285840" y="6510240"/>
            <a:ext cx="4735440" cy="1882440"/>
            <a:chOff x="285840" y="6510240"/>
            <a:chExt cx="4735440" cy="1882440"/>
          </a:xfrm>
        </p:grpSpPr>
        <p:pic>
          <p:nvPicPr>
            <p:cNvPr id="109" name="Picture 14" descr=""/>
            <p:cNvPicPr/>
            <p:nvPr/>
          </p:nvPicPr>
          <p:blipFill>
            <a:blip r:embed="rId4"/>
            <a:stretch/>
          </p:blipFill>
          <p:spPr>
            <a:xfrm>
              <a:off x="357120" y="6510240"/>
              <a:ext cx="23270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/>
            <p:cNvSpPr/>
            <p:nvPr/>
          </p:nvSpPr>
          <p:spPr>
            <a:xfrm>
              <a:off x="285840" y="7477920"/>
              <a:ext cx="473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정보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SendPlusV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의 버전정보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매뉴얼 다운로드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SendPlusV3 Manual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다운로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양식 다운로드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통합파일 양식 다운로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287280" y="928800"/>
            <a:ext cx="625968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Text Box 8"/>
          <p:cNvSpPr/>
          <p:nvPr/>
        </p:nvSpPr>
        <p:spPr>
          <a:xfrm>
            <a:off x="214200" y="6500880"/>
            <a:ext cx="64008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하기 위해 추가한 파일에 대한 정보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안에 존재하는 전자문서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할 수 있는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지정된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형식에 어긋나는 오류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미가입되어 있는 거래처에 보내려고 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는 문서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의 총 공급가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총 세액과 파일을 올린 시각을 볼 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된 파일에 존재하는 각각의 전자문서 타입에 대한 건수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각각의 전자문서 건수는 공급자의 아이디를 기준으로 구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3133440" y="32688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168720" y="50720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6" name="모서리가 둥근 직사각형 16"/>
          <p:cNvSpPr/>
          <p:nvPr/>
        </p:nvSpPr>
        <p:spPr>
          <a:xfrm>
            <a:off x="214200" y="1643040"/>
            <a:ext cx="7146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그룹 11"/>
          <p:cNvGrpSpPr/>
          <p:nvPr/>
        </p:nvGrpSpPr>
        <p:grpSpPr>
          <a:xfrm>
            <a:off x="284040" y="928800"/>
            <a:ext cx="6266160" cy="5406840"/>
            <a:chOff x="284040" y="928800"/>
            <a:chExt cx="6266160" cy="5406840"/>
          </a:xfrm>
        </p:grpSpPr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284040" y="928800"/>
              <a:ext cx="6266160" cy="540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9" name="Picture 9" descr="C:\Users\user\Desktop\센드플러스 매뉴얼(1)\센드플러스 V3자료\v3네임.png"/>
            <p:cNvPicPr/>
            <p:nvPr/>
          </p:nvPicPr>
          <p:blipFill>
            <a:blip r:embed="rId2"/>
            <a:stretch/>
          </p:blipFill>
          <p:spPr>
            <a:xfrm>
              <a:off x="298080" y="937800"/>
              <a:ext cx="12384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Box 14"/>
          <p:cNvSpPr/>
          <p:nvPr/>
        </p:nvSpPr>
        <p:spPr>
          <a:xfrm>
            <a:off x="3102840" y="3857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4200" y="6500880"/>
            <a:ext cx="6643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에 있는 전자문서의 상세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타구분으로는 정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이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할 때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제공하는 양식과 비교하여 다를 때 데이타구분이 전송전오류로 자동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변경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는 전송중에 발생한 오류로써 전송되지 않은 데이터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은 회원전용 문서를 비회원에게 전송할 때 나는 오류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전자문서의 품목정보를 제외한 나머지 전자문서의 상세정보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3" name="모서리가 둥근 직사각형 10"/>
          <p:cNvSpPr/>
          <p:nvPr/>
        </p:nvSpPr>
        <p:spPr>
          <a:xfrm>
            <a:off x="765000" y="1643040"/>
            <a:ext cx="7146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4" name="모서리가 둥근 직사각형 12"/>
          <p:cNvSpPr/>
          <p:nvPr/>
        </p:nvSpPr>
        <p:spPr>
          <a:xfrm>
            <a:off x="765000" y="1619280"/>
            <a:ext cx="7146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25" name="Picture 8" descr="C:\Users\user\Desktop\센드플러스 매뉴얼(1)\센드플러스 V3자료\센드플러스V3 하단 네임.png"/>
          <p:cNvPicPr/>
          <p:nvPr/>
        </p:nvPicPr>
        <p:blipFill>
          <a:blip r:embed="rId3"/>
          <a:stretch/>
        </p:blipFill>
        <p:spPr>
          <a:xfrm>
            <a:off x="303120" y="6100920"/>
            <a:ext cx="8384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그룹 7"/>
          <p:cNvGrpSpPr/>
          <p:nvPr/>
        </p:nvGrpSpPr>
        <p:grpSpPr>
          <a:xfrm>
            <a:off x="271440" y="928800"/>
            <a:ext cx="6291360" cy="5406840"/>
            <a:chOff x="271440" y="928800"/>
            <a:chExt cx="6291360" cy="5406840"/>
          </a:xfrm>
        </p:grpSpPr>
        <p:pic>
          <p:nvPicPr>
            <p:cNvPr id="127" name="Picture 7" descr=""/>
            <p:cNvPicPr/>
            <p:nvPr/>
          </p:nvPicPr>
          <p:blipFill>
            <a:blip r:embed="rId1"/>
            <a:stretch/>
          </p:blipFill>
          <p:spPr>
            <a:xfrm>
              <a:off x="271440" y="928800"/>
              <a:ext cx="6291360" cy="540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8" name="Picture 7" descr="C:\Users\user\Desktop\센드플러스 매뉴얼(1)\센드플러스 V3자료\v3네임.png"/>
            <p:cNvPicPr/>
            <p:nvPr/>
          </p:nvPicPr>
          <p:blipFill>
            <a:blip r:embed="rId2"/>
            <a:stretch/>
          </p:blipFill>
          <p:spPr>
            <a:xfrm>
              <a:off x="285120" y="941760"/>
              <a:ext cx="12384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0" name="모서리가 둥근 직사각형 10"/>
          <p:cNvSpPr/>
          <p:nvPr/>
        </p:nvSpPr>
        <p:spPr>
          <a:xfrm>
            <a:off x="1285920" y="164304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14200" y="6500880"/>
            <a:ext cx="664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의 모든 상태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의 시작부터 종료까지 일련의 모든 동작들이 기록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102840" y="3857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33" name="Picture 8" descr="C:\Users\user\Desktop\센드플러스 매뉴얼(1)\센드플러스 V3자료\센드플러스V3 하단 네임.png"/>
          <p:cNvPicPr/>
          <p:nvPr/>
        </p:nvPicPr>
        <p:blipFill>
          <a:blip r:embed="rId3"/>
          <a:stretch/>
        </p:blipFill>
        <p:spPr>
          <a:xfrm>
            <a:off x="295200" y="6093000"/>
            <a:ext cx="8384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그룹 11"/>
          <p:cNvGrpSpPr/>
          <p:nvPr/>
        </p:nvGrpSpPr>
        <p:grpSpPr>
          <a:xfrm>
            <a:off x="285840" y="1054080"/>
            <a:ext cx="2928960" cy="1925640"/>
            <a:chOff x="285840" y="1054080"/>
            <a:chExt cx="2928960" cy="1925640"/>
          </a:xfrm>
        </p:grpSpPr>
        <p:pic>
          <p:nvPicPr>
            <p:cNvPr id="135" name="Picture 14" descr=""/>
            <p:cNvPicPr/>
            <p:nvPr/>
          </p:nvPicPr>
          <p:blipFill>
            <a:blip r:embed="rId1"/>
            <a:stretch/>
          </p:blipFill>
          <p:spPr>
            <a:xfrm>
              <a:off x="285840" y="1054080"/>
              <a:ext cx="2928960" cy="192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6" name="Picture 11" descr="C:\Users\user\Desktop\센드플러스 매뉴얼(1)\센드플러스 V3자료\v3네임.png"/>
            <p:cNvPicPr/>
            <p:nvPr/>
          </p:nvPicPr>
          <p:blipFill>
            <a:blip r:embed="rId2"/>
            <a:stretch/>
          </p:blipFill>
          <p:spPr>
            <a:xfrm>
              <a:off x="307080" y="1089720"/>
              <a:ext cx="123840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1546200" y="2141640"/>
            <a:ext cx="4997520" cy="4216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216000" y="6500880"/>
            <a:ext cx="6643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세한 로그 내용을 보고 싶을 때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파일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클릭하시면 이전에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업하던 상황을 날짜 별로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해당 날짜를 클릭하면 화면 오른쪽에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내용이 나오며 삭제버튼으로 해당 날짜의 로그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삭제된 내용은 복구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9" name="모서리가 둥근 직사각형 18"/>
          <p:cNvSpPr/>
          <p:nvPr/>
        </p:nvSpPr>
        <p:spPr>
          <a:xfrm>
            <a:off x="701640" y="1763640"/>
            <a:ext cx="1571760" cy="214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0" name="모서리가 둥근 직사각형 15"/>
          <p:cNvSpPr/>
          <p:nvPr/>
        </p:nvSpPr>
        <p:spPr>
          <a:xfrm>
            <a:off x="1604880" y="2781360"/>
            <a:ext cx="1214640" cy="214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2" name="굽은 화살표 13"/>
          <p:cNvSpPr/>
          <p:nvPr/>
        </p:nvSpPr>
        <p:spPr>
          <a:xfrm flipV="1">
            <a:off x="642960" y="3000240"/>
            <a:ext cx="1000080" cy="9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그룹 9"/>
          <p:cNvGrpSpPr/>
          <p:nvPr/>
        </p:nvGrpSpPr>
        <p:grpSpPr>
          <a:xfrm>
            <a:off x="297000" y="928800"/>
            <a:ext cx="6240240" cy="5406840"/>
            <a:chOff x="297000" y="928800"/>
            <a:chExt cx="6240240" cy="5406840"/>
          </a:xfrm>
        </p:grpSpPr>
        <p:pic>
          <p:nvPicPr>
            <p:cNvPr id="144" name="Picture 8" descr=""/>
            <p:cNvPicPr/>
            <p:nvPr/>
          </p:nvPicPr>
          <p:blipFill>
            <a:blip r:embed="rId1"/>
            <a:stretch/>
          </p:blipFill>
          <p:spPr>
            <a:xfrm>
              <a:off x="297000" y="928800"/>
              <a:ext cx="6240240" cy="540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Picture 8" descr="C:\Users\user\Desktop\센드플러스 매뉴얼(1)\센드플러스 V3자료\v3네임.png"/>
            <p:cNvPicPr/>
            <p:nvPr/>
          </p:nvPicPr>
          <p:blipFill>
            <a:blip r:embed="rId2"/>
            <a:stretch/>
          </p:blipFill>
          <p:spPr>
            <a:xfrm>
              <a:off x="303120" y="937800"/>
              <a:ext cx="12380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Box 7"/>
          <p:cNvSpPr/>
          <p:nvPr/>
        </p:nvSpPr>
        <p:spPr>
          <a:xfrm>
            <a:off x="3099600" y="4476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6000" y="6500880"/>
            <a:ext cx="66434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가입 화면은 제휴사로 등록된 업체만 사용 가능한 메뉴로서 사용을 원하시는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체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담당자 혹은 고객지원센터로 연락하십시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(1577-3925)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버튼을 눌러서 회원가입 파일을 추가 한 후에 그 파일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입시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한 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에 어긋나거나 기타 오류가 난 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리고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한 시각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을 상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선택하면 화면 하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해당 파일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상세내역이 나타나 가입시킬 회원 정보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9" name="모서리가 둥근 직사각형 14"/>
          <p:cNvSpPr/>
          <p:nvPr/>
        </p:nvSpPr>
        <p:spPr>
          <a:xfrm>
            <a:off x="1819440" y="164304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102840" y="25002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51" name="Picture 8" descr="C:\Users\user\Desktop\센드플러스 매뉴얼(1)\센드플러스 V3자료\센드플러스V3 하단 네임.png"/>
          <p:cNvPicPr/>
          <p:nvPr/>
        </p:nvPicPr>
        <p:blipFill>
          <a:blip r:embed="rId3"/>
          <a:stretch/>
        </p:blipFill>
        <p:spPr>
          <a:xfrm>
            <a:off x="303120" y="6075360"/>
            <a:ext cx="8384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그룹 7"/>
          <p:cNvGrpSpPr/>
          <p:nvPr/>
        </p:nvGrpSpPr>
        <p:grpSpPr>
          <a:xfrm>
            <a:off x="281160" y="928800"/>
            <a:ext cx="6276960" cy="5410080"/>
            <a:chOff x="281160" y="928800"/>
            <a:chExt cx="6276960" cy="5410080"/>
          </a:xfrm>
        </p:grpSpPr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281160" y="928800"/>
              <a:ext cx="6276960" cy="541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4" name="Picture 11" descr="C:\Users\user\Desktop\센드플러스 매뉴얼(1)\센드플러스 V3자료\v3네임.png"/>
            <p:cNvPicPr/>
            <p:nvPr/>
          </p:nvPicPr>
          <p:blipFill>
            <a:blip r:embed="rId2"/>
            <a:stretch/>
          </p:blipFill>
          <p:spPr>
            <a:xfrm>
              <a:off x="294480" y="946080"/>
              <a:ext cx="12380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8"/>
          <p:cNvSpPr/>
          <p:nvPr/>
        </p:nvSpPr>
        <p:spPr>
          <a:xfrm>
            <a:off x="216000" y="650088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 후 시스템 업그레이드 사항이 있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경우에는 자동 패치 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그레이드가 완료되면 재실행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그레이드 사항이 없는 경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바로 사용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04920"/>
            <a:ext cx="21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7.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자동업데이트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928800" y="2643120"/>
            <a:ext cx="333360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Users\user\Desktop\센드플러스 매뉴얼(1)\센드플러스 V3자료\센드플러스V3 하단 네임.png"/>
          <p:cNvPicPr/>
          <p:nvPr/>
        </p:nvPicPr>
        <p:blipFill>
          <a:blip r:embed="rId4"/>
          <a:stretch/>
        </p:blipFill>
        <p:spPr>
          <a:xfrm>
            <a:off x="295200" y="6100920"/>
            <a:ext cx="8384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3254400" y="954000"/>
            <a:ext cx="3254400" cy="333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환경설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2920" y="4786200"/>
            <a:ext cx="664380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한 후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을 선택하여 사용자에 맞는 상태를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파일 추가 시 공급자의 사업자번호와 일치하는 인증서를 검사하기 때문에 미리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등록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사에서 관리하는 고유번호로 이미 발행된 전자문서인지 판단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된 문서를 발행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니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되는 전자문서도 정상 발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품목명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테스트품목 外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5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으로 표시할지 여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③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가 발행 되었을 때 거래처의 이메일 주소로 전송된 전자문서를 확인을 요구하는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내용의 메일을 전송 할 것인지 여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④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발행시 자동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계산서도 함께 발행할 것인지에 대한 여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업자번호 별 공인인증서를 관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536440" y="13572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5533200" y="20001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5533200" y="26431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5533200" y="3333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70960" y="37861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7" name="굽은 화살표 16"/>
          <p:cNvSpPr/>
          <p:nvPr/>
        </p:nvSpPr>
        <p:spPr>
          <a:xfrm flipV="1">
            <a:off x="1643040" y="2857680"/>
            <a:ext cx="1000080" cy="10000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8" name="모서리가 둥근 직사각형 21"/>
          <p:cNvSpPr/>
          <p:nvPr/>
        </p:nvSpPr>
        <p:spPr>
          <a:xfrm>
            <a:off x="773280" y="1415880"/>
            <a:ext cx="714240" cy="214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169" name="그룹 13"/>
          <p:cNvGrpSpPr/>
          <p:nvPr/>
        </p:nvGrpSpPr>
        <p:grpSpPr>
          <a:xfrm>
            <a:off x="272880" y="1042920"/>
            <a:ext cx="2752920" cy="1905120"/>
            <a:chOff x="272880" y="1042920"/>
            <a:chExt cx="2752920" cy="1905120"/>
          </a:xfrm>
        </p:grpSpPr>
        <p:pic>
          <p:nvPicPr>
            <p:cNvPr id="170" name="Picture 18" descr=""/>
            <p:cNvPicPr/>
            <p:nvPr/>
          </p:nvPicPr>
          <p:blipFill>
            <a:blip r:embed="rId2"/>
            <a:stretch/>
          </p:blipFill>
          <p:spPr>
            <a:xfrm>
              <a:off x="272880" y="1042920"/>
              <a:ext cx="2752920" cy="190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1" name="Picture 10" descr=""/>
            <p:cNvPicPr/>
            <p:nvPr/>
          </p:nvPicPr>
          <p:blipFill>
            <a:blip r:embed="rId3"/>
            <a:stretch/>
          </p:blipFill>
          <p:spPr>
            <a:xfrm>
              <a:off x="299880" y="1060560"/>
              <a:ext cx="119232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직사각형 14"/>
          <p:cNvSpPr/>
          <p:nvPr/>
        </p:nvSpPr>
        <p:spPr>
          <a:xfrm>
            <a:off x="1430280" y="1068480"/>
            <a:ext cx="43200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3" descr=""/>
          <p:cNvPicPr/>
          <p:nvPr/>
        </p:nvPicPr>
        <p:blipFill>
          <a:blip r:embed="rId1"/>
          <a:stretch/>
        </p:blipFill>
        <p:spPr>
          <a:xfrm>
            <a:off x="312840" y="954000"/>
            <a:ext cx="3276360" cy="333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5" name="모서리가 둥근 직사각형 27"/>
          <p:cNvSpPr/>
          <p:nvPr/>
        </p:nvSpPr>
        <p:spPr>
          <a:xfrm>
            <a:off x="260280" y="3857760"/>
            <a:ext cx="10717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6" name="오른쪽 화살표 28"/>
          <p:cNvSpPr/>
          <p:nvPr/>
        </p:nvSpPr>
        <p:spPr>
          <a:xfrm rot="5400000">
            <a:off x="3964320" y="2821680"/>
            <a:ext cx="642960" cy="571320"/>
          </a:xfrm>
          <a:prstGeom prst="rightArrow">
            <a:avLst>
              <a:gd name="adj1" fmla="val 50000"/>
              <a:gd name="adj2" fmla="val 796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77" name="Picture 20" descr=""/>
          <p:cNvPicPr/>
          <p:nvPr/>
        </p:nvPicPr>
        <p:blipFill>
          <a:blip r:embed="rId2"/>
          <a:stretch/>
        </p:blipFill>
        <p:spPr>
          <a:xfrm>
            <a:off x="1866960" y="1285920"/>
            <a:ext cx="474336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216000" y="5857920"/>
            <a:ext cx="6643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관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 창에서 인증서 관리버튼을 누르면 인증서 관리창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 창에서 인증서추가 버튼을 누르면 인증서 등록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아이디와 비밀번호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가입된 아이디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계산서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자 아이디란이 공란일 때 대체되는 아이디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에 해당하는 사업자번호와 인증서 암호를 작성 한 후에 검색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사업자의 인증서를 등록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9" name="모서리가 둥근 직사각형 29"/>
          <p:cNvSpPr/>
          <p:nvPr/>
        </p:nvSpPr>
        <p:spPr>
          <a:xfrm>
            <a:off x="1928880" y="1558800"/>
            <a:ext cx="1071360" cy="311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0" name="Picture 21" descr=""/>
          <p:cNvPicPr/>
          <p:nvPr/>
        </p:nvPicPr>
        <p:blipFill>
          <a:blip r:embed="rId3"/>
          <a:stretch/>
        </p:blipFill>
        <p:spPr>
          <a:xfrm>
            <a:off x="2519280" y="3048120"/>
            <a:ext cx="3789360" cy="23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모서리가 둥근 직사각형 30"/>
          <p:cNvSpPr/>
          <p:nvPr/>
        </p:nvSpPr>
        <p:spPr>
          <a:xfrm>
            <a:off x="4975200" y="4630680"/>
            <a:ext cx="676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82" name="오른쪽 화살표 21"/>
          <p:cNvSpPr/>
          <p:nvPr/>
        </p:nvSpPr>
        <p:spPr>
          <a:xfrm>
            <a:off x="1643040" y="2357280"/>
            <a:ext cx="642960" cy="571680"/>
          </a:xfrm>
          <a:prstGeom prst="rightArrow">
            <a:avLst>
              <a:gd name="adj1" fmla="val 50000"/>
              <a:gd name="adj2" fmla="val 796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1017720" y="928800"/>
            <a:ext cx="48034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모서리가 둥근 직사각형 11"/>
          <p:cNvSpPr/>
          <p:nvPr/>
        </p:nvSpPr>
        <p:spPr>
          <a:xfrm>
            <a:off x="4551480" y="3929040"/>
            <a:ext cx="592200" cy="344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42920" y="4786200"/>
            <a:ext cx="6643800" cy="27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:\Program Files\NPKI\CrossCert\USER\cn=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판매주식회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ou=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ou=sendbill,ou=AccreditedCA,o=CrossCert,c=KR\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등록할 인증서가 저장되어 있는 경로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한국 전자인증에서 발급받은 공인인증서인 경우에는 아래와 같은 경로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:\Program Files\NPKI\CrossCert\USER\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사명으로시작하는폴더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한국 전자인증 이외의 업체에서 발급받은 인증서인 경우에는 해당 인증서 업체에 인증서경로를 문의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열기 버튼을 누르면 인증서 경로설정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※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인증서 파일은 보이지 않습니다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.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인증서 경로를 설정하면 됩니다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765000" y="928800"/>
            <a:ext cx="5543640" cy="12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소개   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2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설치 전 체크사항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3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설치하기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4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버튼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8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메뉴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9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6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화면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자동업데이트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5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8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환경설정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6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9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인증서등록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7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0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예외사업자번호등록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1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시작하기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2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파일추가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3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파일선택삭제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4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4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새작업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5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5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전송  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6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6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확인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7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7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저장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8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8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회원가입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9.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상황별 대처법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20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참고사항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3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0.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목차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5" descr=""/>
          <p:cNvPicPr/>
          <p:nvPr/>
        </p:nvPicPr>
        <p:blipFill>
          <a:blip r:embed="rId1"/>
          <a:stretch/>
        </p:blipFill>
        <p:spPr>
          <a:xfrm>
            <a:off x="1785960" y="3503520"/>
            <a:ext cx="4762440" cy="28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8"/>
          <p:cNvSpPr/>
          <p:nvPr/>
        </p:nvSpPr>
        <p:spPr>
          <a:xfrm>
            <a:off x="216000" y="6746760"/>
            <a:ext cx="6643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 정보입력 창에서 저장버튼을 누르면 추가된 인증서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9" name="Picture 14" descr=""/>
          <p:cNvPicPr/>
          <p:nvPr/>
        </p:nvPicPr>
        <p:blipFill>
          <a:blip r:embed="rId2"/>
          <a:stretch/>
        </p:blipFill>
        <p:spPr>
          <a:xfrm>
            <a:off x="285840" y="936720"/>
            <a:ext cx="3809880" cy="23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굽은 화살표 15"/>
          <p:cNvSpPr/>
          <p:nvPr/>
        </p:nvSpPr>
        <p:spPr>
          <a:xfrm flipV="1">
            <a:off x="714240" y="3429000"/>
            <a:ext cx="1000440" cy="9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2" name="모서리가 둥근 직사각형 20"/>
          <p:cNvSpPr/>
          <p:nvPr/>
        </p:nvSpPr>
        <p:spPr>
          <a:xfrm>
            <a:off x="2668680" y="2928960"/>
            <a:ext cx="714240" cy="344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그룹 10"/>
          <p:cNvGrpSpPr/>
          <p:nvPr/>
        </p:nvGrpSpPr>
        <p:grpSpPr>
          <a:xfrm>
            <a:off x="260280" y="1116000"/>
            <a:ext cx="2752920" cy="1870200"/>
            <a:chOff x="260280" y="1116000"/>
            <a:chExt cx="2752920" cy="1870200"/>
          </a:xfrm>
        </p:grpSpPr>
        <p:pic>
          <p:nvPicPr>
            <p:cNvPr id="194" name="Picture 18" descr=""/>
            <p:cNvPicPr/>
            <p:nvPr/>
          </p:nvPicPr>
          <p:blipFill>
            <a:blip r:embed="rId1"/>
            <a:stretch/>
          </p:blipFill>
          <p:spPr>
            <a:xfrm>
              <a:off x="260280" y="1116000"/>
              <a:ext cx="2752920" cy="1870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2"/>
            <a:stretch/>
          </p:blipFill>
          <p:spPr>
            <a:xfrm>
              <a:off x="295560" y="1133280"/>
              <a:ext cx="1192320" cy="2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직사각형 9"/>
            <p:cNvSpPr/>
            <p:nvPr/>
          </p:nvSpPr>
          <p:spPr>
            <a:xfrm>
              <a:off x="1400040" y="1179360"/>
              <a:ext cx="5763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3533760" y="928800"/>
            <a:ext cx="297828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Rectangle 4"/>
          <p:cNvSpPr/>
          <p:nvPr/>
        </p:nvSpPr>
        <p:spPr>
          <a:xfrm>
            <a:off x="0" y="304920"/>
            <a:ext cx="3214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예외 사업자번호 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9" name="모서리가 둥근 직사각형 3"/>
          <p:cNvSpPr/>
          <p:nvPr/>
        </p:nvSpPr>
        <p:spPr>
          <a:xfrm>
            <a:off x="620640" y="1968480"/>
            <a:ext cx="1584360" cy="22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00" name="오른쪽 화살표 5"/>
          <p:cNvSpPr/>
          <p:nvPr/>
        </p:nvSpPr>
        <p:spPr>
          <a:xfrm>
            <a:off x="3000240" y="1857240"/>
            <a:ext cx="642960" cy="571680"/>
          </a:xfrm>
          <a:prstGeom prst="rightArrow">
            <a:avLst>
              <a:gd name="adj1" fmla="val 50000"/>
              <a:gd name="adj2" fmla="val 796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01" name="모서리가 둥근 직사각형 6"/>
          <p:cNvSpPr/>
          <p:nvPr/>
        </p:nvSpPr>
        <p:spPr>
          <a:xfrm>
            <a:off x="3571920" y="1227240"/>
            <a:ext cx="20718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6000" y="585792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예외 사업자번호 관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올바른 사업자번호인지 검사하는 부분에서 제외할 사업자번호를 등록하는 화면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입력된 사업자번호는 유효한 사업자 번호인지 검사하지 않으니 신중히 등록하시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736800" y="2357280"/>
            <a:ext cx="28134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을 한 후            버튼을 누르거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접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뉴를 누르면 접속아이디와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밀번호를 요구하는데 이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가입된 아이디와 비밀번호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여 로그인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2"/>
          <a:stretch/>
        </p:blipFill>
        <p:spPr>
          <a:xfrm>
            <a:off x="1785960" y="6686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시작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07" name="왼쪽 중괄호 17"/>
          <p:cNvSpPr/>
          <p:nvPr/>
        </p:nvSpPr>
        <p:spPr>
          <a:xfrm flipH="1">
            <a:off x="3071160" y="2214720"/>
            <a:ext cx="500040" cy="2214360"/>
          </a:xfrm>
          <a:custGeom>
            <a:avLst/>
            <a:gdLst>
              <a:gd name="textAreaLeft" fmla="*/ 319320 w 500040"/>
              <a:gd name="textAreaRight" fmla="*/ 500040 w 500040"/>
              <a:gd name="textAreaTop" fmla="*/ 173160 h 2214360"/>
              <a:gd name="textAreaBottom" fmla="*/ 20412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08" name="그룹 19"/>
          <p:cNvGrpSpPr/>
          <p:nvPr/>
        </p:nvGrpSpPr>
        <p:grpSpPr>
          <a:xfrm>
            <a:off x="210960" y="928800"/>
            <a:ext cx="2349720" cy="2143080"/>
            <a:chOff x="210960" y="928800"/>
            <a:chExt cx="2349720" cy="2143080"/>
          </a:xfrm>
        </p:grpSpPr>
        <p:sp>
          <p:nvSpPr>
            <p:cNvPr id="209" name="TextBox 17"/>
            <p:cNvSpPr/>
            <p:nvPr/>
          </p:nvSpPr>
          <p:spPr>
            <a:xfrm>
              <a:off x="21096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10" name="Picture 16" descr=""/>
            <p:cNvPicPr/>
            <p:nvPr/>
          </p:nvPicPr>
          <p:blipFill>
            <a:blip r:embed="rId3"/>
            <a:stretch/>
          </p:blipFill>
          <p:spPr>
            <a:xfrm>
              <a:off x="353520" y="1338120"/>
              <a:ext cx="2207160" cy="1733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1" name="모서리가 둥근 직사각형 16"/>
            <p:cNvSpPr/>
            <p:nvPr/>
          </p:nvSpPr>
          <p:spPr>
            <a:xfrm>
              <a:off x="358560" y="1741680"/>
              <a:ext cx="704880" cy="226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212" name="그룹 21"/>
          <p:cNvGrpSpPr/>
          <p:nvPr/>
        </p:nvGrpSpPr>
        <p:grpSpPr>
          <a:xfrm>
            <a:off x="211320" y="3338640"/>
            <a:ext cx="2285640" cy="2162160"/>
            <a:chOff x="211320" y="3338640"/>
            <a:chExt cx="2285640" cy="2162160"/>
          </a:xfrm>
        </p:grpSpPr>
        <p:sp>
          <p:nvSpPr>
            <p:cNvPr id="213" name="TextBox 17"/>
            <p:cNvSpPr/>
            <p:nvPr/>
          </p:nvSpPr>
          <p:spPr>
            <a:xfrm>
              <a:off x="211320" y="333864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14" name="Picture 18" descr=""/>
            <p:cNvPicPr/>
            <p:nvPr/>
          </p:nvPicPr>
          <p:blipFill>
            <a:blip r:embed="rId4"/>
            <a:stretch/>
          </p:blipFill>
          <p:spPr>
            <a:xfrm>
              <a:off x="437400" y="3747960"/>
              <a:ext cx="2059560" cy="1752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5" name="모서리가 둥근 직사각형 20"/>
            <p:cNvSpPr/>
            <p:nvPr/>
          </p:nvSpPr>
          <p:spPr>
            <a:xfrm>
              <a:off x="404640" y="4140360"/>
              <a:ext cx="304560" cy="25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pic>
        <p:nvPicPr>
          <p:cNvPr id="216" name="Picture 10" descr=""/>
          <p:cNvPicPr/>
          <p:nvPr/>
        </p:nvPicPr>
        <p:blipFill>
          <a:blip r:embed="rId5"/>
          <a:stretch/>
        </p:blipFill>
        <p:spPr>
          <a:xfrm>
            <a:off x="368280" y="1349280"/>
            <a:ext cx="1192320" cy="247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6"/>
          <a:stretch/>
        </p:blipFill>
        <p:spPr>
          <a:xfrm>
            <a:off x="452520" y="3760920"/>
            <a:ext cx="1191960" cy="2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8"/>
          <p:cNvSpPr/>
          <p:nvPr/>
        </p:nvSpPr>
        <p:spPr>
          <a:xfrm>
            <a:off x="216000" y="6746760"/>
            <a:ext cx="6643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혹은          버튼을 누르면 전송할 파일을 선택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때 추가할 파일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양식에 의해 작성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xl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해당 파일 한 개를 선택하고 열기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개의 파일을 등록시키는 것은 위의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방법을 반복하면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19" name="Picture 8" descr="D:\Project\SendPlusNew\image\addFile.gif"/>
          <p:cNvPicPr/>
          <p:nvPr/>
        </p:nvPicPr>
        <p:blipFill>
          <a:blip r:embed="rId1"/>
          <a:stretch/>
        </p:blipFill>
        <p:spPr>
          <a:xfrm>
            <a:off x="2313000" y="6786720"/>
            <a:ext cx="291960" cy="2919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추가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21" name="그룹 23"/>
          <p:cNvGrpSpPr/>
          <p:nvPr/>
        </p:nvGrpSpPr>
        <p:grpSpPr>
          <a:xfrm>
            <a:off x="210960" y="928800"/>
            <a:ext cx="2435400" cy="1884240"/>
            <a:chOff x="210960" y="928800"/>
            <a:chExt cx="2435400" cy="1884240"/>
          </a:xfrm>
        </p:grpSpPr>
        <p:pic>
          <p:nvPicPr>
            <p:cNvPr id="222" name="Picture 16" descr=""/>
            <p:cNvPicPr/>
            <p:nvPr/>
          </p:nvPicPr>
          <p:blipFill>
            <a:blip r:embed="rId2"/>
            <a:stretch/>
          </p:blipFill>
          <p:spPr>
            <a:xfrm>
              <a:off x="284400" y="1617840"/>
              <a:ext cx="2361960" cy="119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3" name="TextBox 17"/>
            <p:cNvSpPr/>
            <p:nvPr/>
          </p:nvSpPr>
          <p:spPr>
            <a:xfrm>
              <a:off x="21096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24" name="모서리가 둥근 직사각형 20"/>
          <p:cNvSpPr/>
          <p:nvPr/>
        </p:nvSpPr>
        <p:spPr>
          <a:xfrm>
            <a:off x="495360" y="1962000"/>
            <a:ext cx="269640" cy="262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25" name="그룹 22"/>
          <p:cNvGrpSpPr/>
          <p:nvPr/>
        </p:nvGrpSpPr>
        <p:grpSpPr>
          <a:xfrm>
            <a:off x="4170240" y="928800"/>
            <a:ext cx="2401920" cy="1847880"/>
            <a:chOff x="4170240" y="928800"/>
            <a:chExt cx="2401920" cy="1847880"/>
          </a:xfrm>
        </p:grpSpPr>
        <p:pic>
          <p:nvPicPr>
            <p:cNvPr id="226" name="Picture 17" descr=""/>
            <p:cNvPicPr/>
            <p:nvPr/>
          </p:nvPicPr>
          <p:blipFill>
            <a:blip r:embed="rId3"/>
            <a:stretch/>
          </p:blipFill>
          <p:spPr>
            <a:xfrm>
              <a:off x="4210200" y="1613520"/>
              <a:ext cx="2361960" cy="116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7" name="TextBox 17"/>
            <p:cNvSpPr/>
            <p:nvPr/>
          </p:nvSpPr>
          <p:spPr>
            <a:xfrm>
              <a:off x="417024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28" name="왼쪽 중괄호 16"/>
          <p:cNvSpPr/>
          <p:nvPr/>
        </p:nvSpPr>
        <p:spPr>
          <a:xfrm rot="16200000">
            <a:off x="3143160" y="2214360"/>
            <a:ext cx="500040" cy="1785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2040 h 1785960"/>
              <a:gd name="textAreaBottom" fmla="*/ 166392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63"/>
                  <a:pt x="10800" y="4725"/>
                </a:cubicBezTo>
                <a:lnTo>
                  <a:pt x="10800" y="6075"/>
                </a:lnTo>
                <a:cubicBezTo>
                  <a:pt x="10800" y="8438"/>
                  <a:pt x="5400" y="10800"/>
                  <a:pt x="0" y="10800"/>
                </a:cubicBezTo>
                <a:cubicBezTo>
                  <a:pt x="5400" y="10800"/>
                  <a:pt x="10800" y="13163"/>
                  <a:pt x="10800" y="15525"/>
                </a:cubicBezTo>
                <a:lnTo>
                  <a:pt x="10800" y="16875"/>
                </a:lnTo>
                <a:cubicBezTo>
                  <a:pt x="10800" y="192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29" name="Picture 18" descr=""/>
          <p:cNvPicPr/>
          <p:nvPr/>
        </p:nvPicPr>
        <p:blipFill>
          <a:blip r:embed="rId4"/>
          <a:stretch/>
        </p:blipFill>
        <p:spPr>
          <a:xfrm>
            <a:off x="795240" y="3429000"/>
            <a:ext cx="5261040" cy="31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0" name="모서리가 둥근 직사각형 26"/>
          <p:cNvSpPr/>
          <p:nvPr/>
        </p:nvSpPr>
        <p:spPr>
          <a:xfrm>
            <a:off x="4713120" y="2098800"/>
            <a:ext cx="676440" cy="17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5"/>
          <a:stretch/>
        </p:blipFill>
        <p:spPr>
          <a:xfrm>
            <a:off x="304920" y="1630440"/>
            <a:ext cx="884160" cy="18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6"/>
          <a:stretch/>
        </p:blipFill>
        <p:spPr>
          <a:xfrm>
            <a:off x="4216320" y="1631880"/>
            <a:ext cx="97956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그룹 9"/>
          <p:cNvGrpSpPr/>
          <p:nvPr/>
        </p:nvGrpSpPr>
        <p:grpSpPr>
          <a:xfrm>
            <a:off x="500040" y="928800"/>
            <a:ext cx="5838840" cy="5410080"/>
            <a:chOff x="500040" y="928800"/>
            <a:chExt cx="5838840" cy="5410080"/>
          </a:xfrm>
        </p:grpSpPr>
        <p:pic>
          <p:nvPicPr>
            <p:cNvPr id="234" name="Picture 18" descr=""/>
            <p:cNvPicPr/>
            <p:nvPr/>
          </p:nvPicPr>
          <p:blipFill>
            <a:blip r:embed="rId1"/>
            <a:stretch/>
          </p:blipFill>
          <p:spPr>
            <a:xfrm>
              <a:off x="500040" y="928800"/>
              <a:ext cx="5838840" cy="541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35" name="Picture 10" descr=""/>
            <p:cNvPicPr/>
            <p:nvPr/>
          </p:nvPicPr>
          <p:blipFill>
            <a:blip r:embed="rId2"/>
            <a:stretch/>
          </p:blipFill>
          <p:spPr>
            <a:xfrm>
              <a:off x="550440" y="952560"/>
              <a:ext cx="115416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추가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7" name="TextBox 21"/>
          <p:cNvSpPr/>
          <p:nvPr/>
        </p:nvSpPr>
        <p:spPr>
          <a:xfrm>
            <a:off x="741960" y="50720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745200" y="3095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총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한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금액의 합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한 시간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이디 별로 그룹화 하여 전자문서의 종류별로 건수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그룹 6"/>
          <p:cNvGrpSpPr/>
          <p:nvPr/>
        </p:nvGrpSpPr>
        <p:grpSpPr>
          <a:xfrm>
            <a:off x="487440" y="928800"/>
            <a:ext cx="5864040" cy="5410080"/>
            <a:chOff x="487440" y="928800"/>
            <a:chExt cx="5864040" cy="5410080"/>
          </a:xfrm>
        </p:grpSpPr>
        <p:pic>
          <p:nvPicPr>
            <p:cNvPr id="241" name="Picture 18" descr=""/>
            <p:cNvPicPr/>
            <p:nvPr/>
          </p:nvPicPr>
          <p:blipFill>
            <a:blip r:embed="rId1"/>
            <a:stretch/>
          </p:blipFill>
          <p:spPr>
            <a:xfrm>
              <a:off x="487440" y="928800"/>
              <a:ext cx="5864040" cy="541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2" name="Picture 10" descr=""/>
            <p:cNvPicPr/>
            <p:nvPr/>
          </p:nvPicPr>
          <p:blipFill>
            <a:blip r:embed="rId2"/>
            <a:stretch/>
          </p:blipFill>
          <p:spPr>
            <a:xfrm>
              <a:off x="533520" y="952560"/>
              <a:ext cx="115416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4"/>
          <p:cNvSpPr/>
          <p:nvPr/>
        </p:nvSpPr>
        <p:spPr>
          <a:xfrm>
            <a:off x="0" y="304920"/>
            <a:ext cx="235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선택삭제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44" name="모서리가 둥근 직사각형 18"/>
          <p:cNvSpPr/>
          <p:nvPr/>
        </p:nvSpPr>
        <p:spPr>
          <a:xfrm>
            <a:off x="608040" y="1890720"/>
            <a:ext cx="479520" cy="23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삭제할 파일을 선택에 있는 네모박스를 클릭하면 체크 표시가 되고 삭제 버튼을 누르면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체크표시가 되어 선택된 해당 파일만 삭제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개 선택 후에 삭제 버튼을 누르면 선택된 모든 파일이 삭제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그룹 34"/>
          <p:cNvGrpSpPr/>
          <p:nvPr/>
        </p:nvGrpSpPr>
        <p:grpSpPr>
          <a:xfrm>
            <a:off x="216000" y="6357960"/>
            <a:ext cx="6643440" cy="1227960"/>
            <a:chOff x="216000" y="6357960"/>
            <a:chExt cx="6643440" cy="1227960"/>
          </a:xfrm>
        </p:grpSpPr>
        <p:sp>
          <p:nvSpPr>
            <p:cNvPr id="247" name="Text Box 8"/>
            <p:cNvSpPr/>
            <p:nvPr/>
          </p:nvSpPr>
          <p:spPr>
            <a:xfrm>
              <a:off x="216000" y="6397560"/>
              <a:ext cx="66434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[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작업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]-[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]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이나         를 선택하면 선택삭제를 하지 않고 화면을 초기화 합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정기적으로 새작업을 하는 것을 권장합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초기화가 완료되면 파일추가 창이 뜹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초기화 후에 파일 추가를 하지 않을 땐 취소버튼을 누릅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48" name="Picture 8" descr="D:\Project\SendPlusNew\image\new.gif"/>
            <p:cNvPicPr/>
            <p:nvPr/>
          </p:nvPicPr>
          <p:blipFill>
            <a:blip r:embed="rId1"/>
            <a:stretch/>
          </p:blipFill>
          <p:spPr>
            <a:xfrm>
              <a:off x="2025360" y="63579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4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새작업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50" name="그룹 31"/>
          <p:cNvGrpSpPr/>
          <p:nvPr/>
        </p:nvGrpSpPr>
        <p:grpSpPr>
          <a:xfrm>
            <a:off x="4170240" y="928800"/>
            <a:ext cx="2401920" cy="1887480"/>
            <a:chOff x="4170240" y="928800"/>
            <a:chExt cx="2401920" cy="1887480"/>
          </a:xfrm>
        </p:grpSpPr>
        <p:pic>
          <p:nvPicPr>
            <p:cNvPr id="251" name="Picture 19" descr=""/>
            <p:cNvPicPr/>
            <p:nvPr/>
          </p:nvPicPr>
          <p:blipFill>
            <a:blip r:embed="rId2"/>
            <a:stretch/>
          </p:blipFill>
          <p:spPr>
            <a:xfrm>
              <a:off x="4210200" y="1575720"/>
              <a:ext cx="2361960" cy="124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2" name="TextBox 17"/>
            <p:cNvSpPr/>
            <p:nvPr/>
          </p:nvSpPr>
          <p:spPr>
            <a:xfrm>
              <a:off x="417024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253" name="모서리가 둥근 직사각형 29"/>
            <p:cNvSpPr/>
            <p:nvPr/>
          </p:nvSpPr>
          <p:spPr>
            <a:xfrm>
              <a:off x="4784760" y="1951200"/>
              <a:ext cx="718920" cy="179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254" name="그룹 32"/>
          <p:cNvGrpSpPr/>
          <p:nvPr/>
        </p:nvGrpSpPr>
        <p:grpSpPr>
          <a:xfrm>
            <a:off x="210960" y="928800"/>
            <a:ext cx="2435400" cy="1884240"/>
            <a:chOff x="210960" y="928800"/>
            <a:chExt cx="2435400" cy="1884240"/>
          </a:xfrm>
        </p:grpSpPr>
        <p:pic>
          <p:nvPicPr>
            <p:cNvPr id="255" name="Picture 16" descr=""/>
            <p:cNvPicPr/>
            <p:nvPr/>
          </p:nvPicPr>
          <p:blipFill>
            <a:blip r:embed="rId3"/>
            <a:stretch/>
          </p:blipFill>
          <p:spPr>
            <a:xfrm>
              <a:off x="284400" y="1617840"/>
              <a:ext cx="2361960" cy="119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6" name="TextBox 17"/>
            <p:cNvSpPr/>
            <p:nvPr/>
          </p:nvSpPr>
          <p:spPr>
            <a:xfrm>
              <a:off x="21096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257" name="모서리가 둥근 직사각형 30"/>
            <p:cNvSpPr/>
            <p:nvPr/>
          </p:nvSpPr>
          <p:spPr>
            <a:xfrm>
              <a:off x="739800" y="1979640"/>
              <a:ext cx="287280" cy="215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pic>
        <p:nvPicPr>
          <p:cNvPr id="258" name="Picture 18" descr=""/>
          <p:cNvPicPr/>
          <p:nvPr/>
        </p:nvPicPr>
        <p:blipFill>
          <a:blip r:embed="rId4"/>
          <a:stretch/>
        </p:blipFill>
        <p:spPr>
          <a:xfrm>
            <a:off x="1503360" y="3500280"/>
            <a:ext cx="38307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왼쪽 중괄호 44"/>
          <p:cNvSpPr/>
          <p:nvPr/>
        </p:nvSpPr>
        <p:spPr>
          <a:xfrm rot="16200000">
            <a:off x="3143160" y="2214360"/>
            <a:ext cx="500040" cy="1785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2040 h 1785960"/>
              <a:gd name="textAreaBottom" fmla="*/ 166392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63"/>
                  <a:pt x="10800" y="4725"/>
                </a:cubicBezTo>
                <a:lnTo>
                  <a:pt x="10800" y="6075"/>
                </a:lnTo>
                <a:cubicBezTo>
                  <a:pt x="10800" y="8438"/>
                  <a:pt x="5400" y="10800"/>
                  <a:pt x="0" y="10800"/>
                </a:cubicBezTo>
                <a:cubicBezTo>
                  <a:pt x="5400" y="10800"/>
                  <a:pt x="10800" y="13163"/>
                  <a:pt x="10800" y="15525"/>
                </a:cubicBezTo>
                <a:lnTo>
                  <a:pt x="10800" y="16875"/>
                </a:lnTo>
                <a:cubicBezTo>
                  <a:pt x="10800" y="192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60" name="Picture 10" descr=""/>
          <p:cNvPicPr/>
          <p:nvPr/>
        </p:nvPicPr>
        <p:blipFill>
          <a:blip r:embed="rId5"/>
          <a:stretch/>
        </p:blipFill>
        <p:spPr>
          <a:xfrm>
            <a:off x="307800" y="1627200"/>
            <a:ext cx="100836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6"/>
          <a:stretch/>
        </p:blipFill>
        <p:spPr>
          <a:xfrm>
            <a:off x="4216320" y="1579680"/>
            <a:ext cx="1050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9" descr=""/>
          <p:cNvPicPr/>
          <p:nvPr/>
        </p:nvPicPr>
        <p:blipFill>
          <a:blip r:embed="rId1"/>
          <a:stretch/>
        </p:blipFill>
        <p:spPr>
          <a:xfrm>
            <a:off x="4210200" y="1434960"/>
            <a:ext cx="236196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5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전송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64" name="그룹 24"/>
          <p:cNvGrpSpPr/>
          <p:nvPr/>
        </p:nvGrpSpPr>
        <p:grpSpPr>
          <a:xfrm>
            <a:off x="210960" y="928800"/>
            <a:ext cx="2436840" cy="2144520"/>
            <a:chOff x="210960" y="928800"/>
            <a:chExt cx="2436840" cy="2144520"/>
          </a:xfrm>
        </p:grpSpPr>
        <p:pic>
          <p:nvPicPr>
            <p:cNvPr id="265" name="Picture 18" descr=""/>
            <p:cNvPicPr/>
            <p:nvPr/>
          </p:nvPicPr>
          <p:blipFill>
            <a:blip r:embed="rId2"/>
            <a:stretch/>
          </p:blipFill>
          <p:spPr>
            <a:xfrm>
              <a:off x="285480" y="1394280"/>
              <a:ext cx="2362320" cy="167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6" name="TextBox 17"/>
            <p:cNvSpPr/>
            <p:nvPr/>
          </p:nvSpPr>
          <p:spPr>
            <a:xfrm>
              <a:off x="21096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267" name="모서리가 둥근 직사각형 21"/>
            <p:cNvSpPr/>
            <p:nvPr/>
          </p:nvSpPr>
          <p:spPr>
            <a:xfrm>
              <a:off x="1336680" y="1836720"/>
              <a:ext cx="266400" cy="241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268" name="모서리가 둥근 직사각형 23"/>
            <p:cNvSpPr/>
            <p:nvPr/>
          </p:nvSpPr>
          <p:spPr>
            <a:xfrm>
              <a:off x="768240" y="2085840"/>
              <a:ext cx="555480" cy="2206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69" name="TextBox 17"/>
          <p:cNvSpPr/>
          <p:nvPr/>
        </p:nvSpPr>
        <p:spPr>
          <a:xfrm>
            <a:off x="4170240" y="9288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방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0" name="모서리가 둥근 직사각형 29"/>
          <p:cNvSpPr/>
          <p:nvPr/>
        </p:nvSpPr>
        <p:spPr>
          <a:xfrm>
            <a:off x="4822920" y="2178000"/>
            <a:ext cx="785880" cy="200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은 데이타탭에서만 가능합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상건만 전송이 되고 정상적으로 전송이 된 전자문서는 화면에서 사라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상건이 아니어 전송이 되지 않은 전자문서는 ‘전송후오류’로 데이터 화면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72" name="Picture 10" descr=""/>
          <p:cNvPicPr/>
          <p:nvPr/>
        </p:nvPicPr>
        <p:blipFill>
          <a:blip r:embed="rId3"/>
          <a:stretch/>
        </p:blipFill>
        <p:spPr>
          <a:xfrm>
            <a:off x="307800" y="1415880"/>
            <a:ext cx="1105200" cy="230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4"/>
          <a:stretch/>
        </p:blipFill>
        <p:spPr>
          <a:xfrm>
            <a:off x="4224240" y="1452600"/>
            <a:ext cx="11937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확인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16000" y="6746760"/>
            <a:ext cx="664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 이라는 글씨를 클릭하게 되면 그림과 같이 오류를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76" name="그룹 10"/>
          <p:cNvGrpSpPr/>
          <p:nvPr/>
        </p:nvGrpSpPr>
        <p:grpSpPr>
          <a:xfrm>
            <a:off x="334800" y="1076400"/>
            <a:ext cx="6131160" cy="4257720"/>
            <a:chOff x="334800" y="1076400"/>
            <a:chExt cx="6131160" cy="4257720"/>
          </a:xfrm>
        </p:grpSpPr>
        <p:grpSp>
          <p:nvGrpSpPr>
            <p:cNvPr id="277" name="그룹 9"/>
            <p:cNvGrpSpPr/>
            <p:nvPr/>
          </p:nvGrpSpPr>
          <p:grpSpPr>
            <a:xfrm>
              <a:off x="334800" y="1076400"/>
              <a:ext cx="6131160" cy="4257720"/>
              <a:chOff x="334800" y="1076400"/>
              <a:chExt cx="6131160" cy="4257720"/>
            </a:xfrm>
          </p:grpSpPr>
          <p:grpSp>
            <p:nvGrpSpPr>
              <p:cNvPr id="278" name="그룹 15"/>
              <p:cNvGrpSpPr/>
              <p:nvPr/>
            </p:nvGrpSpPr>
            <p:grpSpPr>
              <a:xfrm>
                <a:off x="334800" y="1076400"/>
                <a:ext cx="2406600" cy="2038320"/>
                <a:chOff x="334800" y="1076400"/>
                <a:chExt cx="2406600" cy="2038320"/>
              </a:xfrm>
            </p:grpSpPr>
            <p:pic>
              <p:nvPicPr>
                <p:cNvPr id="279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4800" y="1076400"/>
                  <a:ext cx="2406600" cy="20383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80" name="오른쪽 화살표 17"/>
                <p:cNvSpPr/>
                <p:nvPr/>
              </p:nvSpPr>
              <p:spPr>
                <a:xfrm>
                  <a:off x="1428480" y="2148120"/>
                  <a:ext cx="714240" cy="642960"/>
                </a:xfrm>
                <a:prstGeom prst="rightArrow">
                  <a:avLst>
                    <a:gd name="adj1" fmla="val 50000"/>
                    <a:gd name="adj2" fmla="val 89491"/>
                  </a:avLst>
                </a:prstGeom>
                <a:solidFill>
                  <a:srgbClr val="00cc99"/>
                </a:solidFill>
                <a:ln w="25560">
                  <a:solidFill>
                    <a:srgbClr val="0095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휴먼옛체"/>
                  </a:endParaRPr>
                </a:p>
              </p:txBody>
            </p:sp>
            <p:sp>
              <p:nvSpPr>
                <p:cNvPr id="281" name="모서리가 둥근 직사각형 14"/>
                <p:cNvSpPr/>
                <p:nvPr/>
              </p:nvSpPr>
              <p:spPr>
                <a:xfrm>
                  <a:off x="479160" y="2702160"/>
                  <a:ext cx="785880" cy="2142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휴먼옛체"/>
                  </a:endParaRPr>
                </a:p>
              </p:txBody>
            </p:sp>
          </p:grpSp>
          <p:pic>
            <p:nvPicPr>
              <p:cNvPr id="282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249280" y="2000160"/>
                <a:ext cx="4216680" cy="3333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283" name="Picture 10" descr="C:\Users\user\Desktop\센드플러스 매뉴얼(1)\센드플러스 V3자료\v3네임-removebg-preview.png"/>
            <p:cNvPicPr/>
            <p:nvPr/>
          </p:nvPicPr>
          <p:blipFill>
            <a:blip r:embed="rId3"/>
            <a:stretch/>
          </p:blipFill>
          <p:spPr>
            <a:xfrm>
              <a:off x="366120" y="1085760"/>
              <a:ext cx="936000" cy="19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334800" y="928800"/>
            <a:ext cx="240696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536840" y="2071800"/>
            <a:ext cx="502416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굽은 화살표 13"/>
          <p:cNvSpPr/>
          <p:nvPr/>
        </p:nvSpPr>
        <p:spPr>
          <a:xfrm rot="5400000">
            <a:off x="3035520" y="1178640"/>
            <a:ext cx="714600" cy="7858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3"/>
          <a:stretch/>
        </p:blipFill>
        <p:spPr>
          <a:xfrm>
            <a:off x="2071800" y="5506920"/>
            <a:ext cx="3333600" cy="14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아래쪽 화살표 19"/>
          <p:cNvSpPr/>
          <p:nvPr/>
        </p:nvSpPr>
        <p:spPr>
          <a:xfrm>
            <a:off x="3500280" y="5000760"/>
            <a:ext cx="500400" cy="571320"/>
          </a:xfrm>
          <a:prstGeom prst="downArrow">
            <a:avLst>
              <a:gd name="adj1" fmla="val 50000"/>
              <a:gd name="adj2" fmla="val 753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7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저장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16000" y="712152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 저장 버튼을 누르면 파일을 저장할 수 있는 창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저장위치와 이름을 지정해주고 저장버튼을 누르면 지정한 위치에 지정한 이름을 가진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로 오류 난 전자문서가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1" name="모서리가 둥근 직사각형 22"/>
          <p:cNvSpPr/>
          <p:nvPr/>
        </p:nvSpPr>
        <p:spPr>
          <a:xfrm>
            <a:off x="1204920" y="1717560"/>
            <a:ext cx="9367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2" name="모서리가 둥근 직사각형 23"/>
          <p:cNvSpPr/>
          <p:nvPr/>
        </p:nvSpPr>
        <p:spPr>
          <a:xfrm>
            <a:off x="5715000" y="4572000"/>
            <a:ext cx="8571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3" name="모서리가 둥근 직사각형 24"/>
          <p:cNvSpPr/>
          <p:nvPr/>
        </p:nvSpPr>
        <p:spPr>
          <a:xfrm>
            <a:off x="3278160" y="4605480"/>
            <a:ext cx="92880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94" name="Picture 10" descr="C:\Users\user\Desktop\센드플러스 매뉴얼(1)\센드플러스 V3자료\v3네임-removebg-preview.png"/>
          <p:cNvPicPr/>
          <p:nvPr/>
        </p:nvPicPr>
        <p:blipFill>
          <a:blip r:embed="rId4"/>
          <a:stretch/>
        </p:blipFill>
        <p:spPr>
          <a:xfrm>
            <a:off x="366840" y="941400"/>
            <a:ext cx="936360" cy="1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9"/>
          <p:cNvSpPr/>
          <p:nvPr/>
        </p:nvSpPr>
        <p:spPr>
          <a:xfrm>
            <a:off x="333360" y="857160"/>
            <a:ext cx="6191280" cy="45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대량의 전자문서를 전송하려고 할 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에서 한 건씩 전송 하는 것이 아니라 통합된 양식에 따라 작성된 전자문서를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를 이용하여 일괄전송 하는 프로그램 입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는 전자문서를 통합파일 양식에 따라 작성한 파일을 프로그램에서 추가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송 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또한 대량 회원가입 기능을 추가하여 빠르고 쉽게 대량 회원을 가입 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3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통합 파일 양식 다운로드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홈페이지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료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통합파일양식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3 - 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도움말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양식 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소개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6286320" cy="5410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7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저장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16000" y="7121520"/>
            <a:ext cx="664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데이터는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형태의 표준 포멧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을 확인하고 해당 오류 사항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의 내용을 지우지 않아도 정상적으로 파일이 추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8" name="모서리가 둥근 직사각형 9"/>
          <p:cNvSpPr/>
          <p:nvPr/>
        </p:nvSpPr>
        <p:spPr>
          <a:xfrm>
            <a:off x="2428920" y="2286000"/>
            <a:ext cx="335736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그룹 10"/>
          <p:cNvGrpSpPr/>
          <p:nvPr/>
        </p:nvGrpSpPr>
        <p:grpSpPr>
          <a:xfrm>
            <a:off x="285840" y="1317600"/>
            <a:ext cx="6286320" cy="4651560"/>
            <a:chOff x="285840" y="1317600"/>
            <a:chExt cx="6286320" cy="4651560"/>
          </a:xfrm>
        </p:grpSpPr>
        <p:pic>
          <p:nvPicPr>
            <p:cNvPr id="300" name="Picture 19" descr=""/>
            <p:cNvPicPr/>
            <p:nvPr/>
          </p:nvPicPr>
          <p:blipFill>
            <a:blip r:embed="rId1"/>
            <a:stretch/>
          </p:blipFill>
          <p:spPr>
            <a:xfrm>
              <a:off x="285840" y="1317600"/>
              <a:ext cx="6286320" cy="4651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1" name="Picture 10" descr=""/>
            <p:cNvPicPr/>
            <p:nvPr/>
          </p:nvPicPr>
          <p:blipFill>
            <a:blip r:embed="rId2"/>
            <a:stretch/>
          </p:blipFill>
          <p:spPr>
            <a:xfrm>
              <a:off x="313560" y="1333440"/>
              <a:ext cx="1018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직사각형 9"/>
            <p:cNvSpPr/>
            <p:nvPr/>
          </p:nvSpPr>
          <p:spPr>
            <a:xfrm>
              <a:off x="1260360" y="1349280"/>
              <a:ext cx="28728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303" name="모서리가 둥근 직사각형 21"/>
          <p:cNvSpPr/>
          <p:nvPr/>
        </p:nvSpPr>
        <p:spPr>
          <a:xfrm flipV="1">
            <a:off x="5435640" y="2185200"/>
            <a:ext cx="484200" cy="23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4" name="TextBox 24"/>
          <p:cNvSpPr/>
          <p:nvPr/>
        </p:nvSpPr>
        <p:spPr>
          <a:xfrm>
            <a:off x="5888880" y="17859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3026520" y="43578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6" name="TextBox 21"/>
          <p:cNvSpPr/>
          <p:nvPr/>
        </p:nvSpPr>
        <p:spPr>
          <a:xfrm>
            <a:off x="2170080" y="2786040"/>
            <a:ext cx="2373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파일 추가하는 방법과 동일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8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회원가입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216000" y="6572160"/>
            <a:ext cx="66434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 버튼으로 전자 문서의 선택삭제와 동일한 방법으로 추가한 파일을 선택 후 삭제가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능합니다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을 더블 클릭하면 화면 하단에 선택한 파일의 회원정보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초기화 버튼으로 회원가입 화면을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버튼을 누르면 정상인 회원데이터만 전송이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 저장 버튼으로 오류 난 회원데이터를 저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셀렉트 박스로 데이터구분에 따라 회원데이터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사항별 대처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14200" y="944640"/>
            <a:ext cx="6500880" cy="72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엑셀파일 업로드 후 오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하려는 파일의 문서종류를 알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 규약을 확인한 후 추가하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엑셀 양식 저장 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97-200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xls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저장 하여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에 헤더를 포함 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97-200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xls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저장 후 업로드 하면 업로드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할 수 없는 파일양식이라고 나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헤더부분 삭제 후 저장하여 다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발행업체 사업자번호에 해당하는 등록된 인증서가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업자번호에 해당하는 인증서가 등록 되지 않은 상태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 시킨후 상단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보를 입력한후 인증서를 등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       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 내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미등록된 세금계산서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 되어 있는 데이터가 있는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동일한 고유번호가 없을 경우 이미 등록 되어 있는 세금계산서인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회원연결 정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BILL_MATCH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조회에 실패하였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구분 또는 입력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N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연결이 되어 있는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사업자번호의 회사정보 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보를 조회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에 회원 가입이 되어 있지 않은 상태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가입 후 전송하거나 비회원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문서로 전송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는 탈퇴한 회원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후 다시보내시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대표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지정 되어 있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탈퇴 처리후 대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변경하지 않은 경우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지원센터나 해당 담당자에게 문의 하시어 대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변경 요청을 하셔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사항별 대처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12" name="직사각형 2"/>
          <p:cNvSpPr/>
          <p:nvPr/>
        </p:nvSpPr>
        <p:spPr>
          <a:xfrm>
            <a:off x="285840" y="928800"/>
            <a:ext cx="642924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담당자명이 점으로 입력 되었거나 미입력 되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담당자명을 입력 되지 않은 경우 이므로 담당자명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일이 유효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일자가 미래일자로 작성이 되어 있는 상태 이므로 해당일자에 전송을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시거나 작성일자를 당일 또는 과거 일자로 변경해주셔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 잘못 입력 되었거나  미입력 되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최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율 종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)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자 회사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회사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품목의 거래일자 등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모든 데이터가 잘못 입력 되었거나 미입력 또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점으로 입력되었다는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이 확인 되는 경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Plu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로드 파일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젼이 아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젼으로 잘못 작성 된것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된 파일을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2"/>
          <p:cNvSpPr/>
          <p:nvPr/>
        </p:nvSpPr>
        <p:spPr>
          <a:xfrm>
            <a:off x="142920" y="60865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록시 서버를 이용하여 센드플러스 연결 설정을 할 수 있게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능이 추가되었습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의 주석 부분을 해제해 주시고 각 정보를 입력해 주시면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됩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20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참고사항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315" name="그림 4" descr="configflus.jpg"/>
          <p:cNvPicPr/>
          <p:nvPr/>
        </p:nvPicPr>
        <p:blipFill>
          <a:blip r:embed="rId1"/>
          <a:stretch/>
        </p:blipFill>
        <p:spPr>
          <a:xfrm>
            <a:off x="0" y="1116000"/>
            <a:ext cx="685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8"/>
          <p:cNvSpPr/>
          <p:nvPr/>
        </p:nvSpPr>
        <p:spPr>
          <a:xfrm>
            <a:off x="1428840" y="400068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구축 및 운영 문의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1577-3925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2255760" y="3375000"/>
            <a:ext cx="21430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14240" y="1554120"/>
          <a:ext cx="5378760" cy="5518080"/>
        </p:xfrm>
        <a:graphic>
          <a:graphicData uri="http://schemas.openxmlformats.org/drawingml/2006/table">
            <a:tbl>
              <a:tblPr/>
              <a:tblGrid>
                <a:gridCol w="698760"/>
                <a:gridCol w="2232000"/>
                <a:gridCol w="1224000"/>
                <a:gridCol w="122400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코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종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순발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역발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20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거래명세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거래명세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수탁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55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위수탁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수탁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9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위수탁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0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인매출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Z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외부입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세금계산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외부입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계산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7" name="직사각형 24"/>
          <p:cNvSpPr/>
          <p:nvPr/>
        </p:nvSpPr>
        <p:spPr>
          <a:xfrm>
            <a:off x="876240" y="1090440"/>
            <a:ext cx="50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&lt;&lt; SendPlusV3</a:t>
            </a:r>
            <a:r>
              <a:rPr b="1" lang="ko-KR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로 전송 가능한 문서의 종류 </a:t>
            </a:r>
            <a:r>
              <a:rPr b="1" lang="en-US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&gt;&gt;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33360" y="7143840"/>
            <a:ext cx="619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TCP/IP 19000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번 포트를 통한 데이터 송수신이 가능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환경이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만약 포트가 열려 있지 않다면 귀사의 시스템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자에게 요청을 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Window 2000 / XP / Vista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버전 이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304920"/>
            <a:ext cx="2643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 전 체크사항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214200" y="6281640"/>
            <a:ext cx="6400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설치하기 위해서는 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00M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여유공간이 필요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홈페이지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료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을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다운로드 해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설치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 후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[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시작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]-[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프로그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]-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[SendPlusV3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나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바탕화면에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SendPlusV3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이콘으로 실행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5840" y="1192320"/>
            <a:ext cx="6286320" cy="4759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3" name="모서리가 둥근 직사각형 9"/>
          <p:cNvSpPr/>
          <p:nvPr/>
        </p:nvSpPr>
        <p:spPr>
          <a:xfrm>
            <a:off x="2708280" y="5435640"/>
            <a:ext cx="681120" cy="258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4" name="모서리가 둥근 직사각형 5"/>
          <p:cNvSpPr/>
          <p:nvPr/>
        </p:nvSpPr>
        <p:spPr>
          <a:xfrm>
            <a:off x="1700280" y="4067280"/>
            <a:ext cx="4176720" cy="187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"/>
          <p:cNvSpPr/>
          <p:nvPr/>
        </p:nvSpPr>
        <p:spPr>
          <a:xfrm>
            <a:off x="404640" y="829944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다음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다운로드 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3_Setup.exe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파일을 더블클릭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500040" y="2249640"/>
            <a:ext cx="2028960" cy="63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500040" y="4930920"/>
            <a:ext cx="4705200" cy="32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모서리가 둥근 직사각형 13"/>
          <p:cNvSpPr/>
          <p:nvPr/>
        </p:nvSpPr>
        <p:spPr>
          <a:xfrm>
            <a:off x="3551400" y="7858080"/>
            <a:ext cx="7855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00040" y="4952880"/>
            <a:ext cx="470520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500040" y="868320"/>
            <a:ext cx="470520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10"/>
          <p:cNvSpPr/>
          <p:nvPr/>
        </p:nvSpPr>
        <p:spPr>
          <a:xfrm>
            <a:off x="404640" y="829944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가 진행됩니다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시작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6" name="모서리가 둥근 직사각형 14"/>
          <p:cNvSpPr/>
          <p:nvPr/>
        </p:nvSpPr>
        <p:spPr>
          <a:xfrm>
            <a:off x="3551400" y="3786120"/>
            <a:ext cx="7855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0040" y="880920"/>
            <a:ext cx="470520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모서리가 둥근 직사각형 8"/>
          <p:cNvSpPr/>
          <p:nvPr/>
        </p:nvSpPr>
        <p:spPr>
          <a:xfrm>
            <a:off x="4307040" y="3786120"/>
            <a:ext cx="7855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확인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버튼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4200" y="5857920"/>
            <a:ext cx="6400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인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sswor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로그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아웃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아웃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새작업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기존에 추가된 파일을 화면에서 지우고 파일을 추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추가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가입 문서를 제외한 모든 문서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터탭을 선택했을 때만 활성화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 관리자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MyFold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님께서 전송한 내역을 웹 화면으로 조회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종료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83" name="그룹 20"/>
          <p:cNvGrpSpPr/>
          <p:nvPr/>
        </p:nvGrpSpPr>
        <p:grpSpPr>
          <a:xfrm>
            <a:off x="357120" y="1273320"/>
            <a:ext cx="2383560" cy="3797640"/>
            <a:chOff x="357120" y="1273320"/>
            <a:chExt cx="2383560" cy="3797640"/>
          </a:xfrm>
        </p:grpSpPr>
        <p:pic>
          <p:nvPicPr>
            <p:cNvPr id="84" name="Picture 2" descr="D:\Project\Package\SendPlusNew\image\connect.gif"/>
            <p:cNvPicPr/>
            <p:nvPr/>
          </p:nvPicPr>
          <p:blipFill>
            <a:blip r:embed="rId1"/>
            <a:stretch/>
          </p:blipFill>
          <p:spPr>
            <a:xfrm>
              <a:off x="357120" y="128520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" descr="D:\Project\Package\SendPlusNew\image\noCon.gif"/>
            <p:cNvPicPr/>
            <p:nvPr/>
          </p:nvPicPr>
          <p:blipFill>
            <a:blip r:embed="rId2"/>
            <a:stretch/>
          </p:blipFill>
          <p:spPr>
            <a:xfrm>
              <a:off x="357120" y="18568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D:\Project\Package\SendPlusNew\image\new.gif"/>
            <p:cNvPicPr/>
            <p:nvPr/>
          </p:nvPicPr>
          <p:blipFill>
            <a:blip r:embed="rId3"/>
            <a:stretch/>
          </p:blipFill>
          <p:spPr>
            <a:xfrm>
              <a:off x="357120" y="242856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D:\Project\Package\SendPlusNew\image\addFile.gif"/>
            <p:cNvPicPr/>
            <p:nvPr/>
          </p:nvPicPr>
          <p:blipFill>
            <a:blip r:embed="rId4"/>
            <a:stretch/>
          </p:blipFill>
          <p:spPr>
            <a:xfrm>
              <a:off x="357120" y="30002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D:\Project\Package\SendPlusNew\image\send.gif"/>
            <p:cNvPicPr/>
            <p:nvPr/>
          </p:nvPicPr>
          <p:blipFill>
            <a:blip r:embed="rId5"/>
            <a:stretch/>
          </p:blipFill>
          <p:spPr>
            <a:xfrm>
              <a:off x="357120" y="357156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D:\Project\Package\SendPlusNew\image\adm.gif"/>
            <p:cNvPicPr/>
            <p:nvPr/>
          </p:nvPicPr>
          <p:blipFill>
            <a:blip r:embed="rId6"/>
            <a:stretch/>
          </p:blipFill>
          <p:spPr>
            <a:xfrm>
              <a:off x="357120" y="41432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D:\Project\Package\SendPlusNew\image\exit.gif"/>
            <p:cNvPicPr/>
            <p:nvPr/>
          </p:nvPicPr>
          <p:blipFill>
            <a:blip r:embed="rId7"/>
            <a:stretch/>
          </p:blipFill>
          <p:spPr>
            <a:xfrm>
              <a:off x="357120" y="471492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2"/>
            <p:cNvSpPr/>
            <p:nvPr/>
          </p:nvSpPr>
          <p:spPr>
            <a:xfrm>
              <a:off x="1019520" y="1273320"/>
              <a:ext cx="110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인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2" name="TextBox 13"/>
            <p:cNvSpPr/>
            <p:nvPr/>
          </p:nvSpPr>
          <p:spPr>
            <a:xfrm>
              <a:off x="1066320" y="185688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아웃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1019520" y="2428560"/>
              <a:ext cx="110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4" name="TextBox 15"/>
            <p:cNvSpPr/>
            <p:nvPr/>
          </p:nvSpPr>
          <p:spPr>
            <a:xfrm>
              <a:off x="1066320" y="300024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파일추가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972720" y="3571560"/>
              <a:ext cx="96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송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1168920" y="414324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센드빌 관리자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7" name="TextBox 18"/>
            <p:cNvSpPr/>
            <p:nvPr/>
          </p:nvSpPr>
          <p:spPr>
            <a:xfrm>
              <a:off x="972720" y="4702680"/>
              <a:ext cx="96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종료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4:51:39Z</dcterms:created>
  <dc:creator>넷매니아</dc:creator>
  <dc:description/>
  <dc:language>en-US</dc:language>
  <cp:lastModifiedBy>user</cp:lastModifiedBy>
  <dcterms:modified xsi:type="dcterms:W3CDTF">2022-07-08T05:58:19Z</dcterms:modified>
  <cp:revision>464</cp:revision>
  <dc:subject/>
  <dc:title>1. 설치하기</dc:title>
</cp:coreProperties>
</file>